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gif" ContentType="image/gif"/>
  <Override PartName="/ppt/media/image3.wmf" ContentType="image/x-wmf"/>
  <Override PartName="/ppt/media/image17.wmf" ContentType="image/x-wmf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DC47-3B36-4DAA-9B13-D03E2EF9D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9E89-D5B8-4BA3-AD47-240CF39F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0BA-3CC1-4C74-89FC-1BE2CDAA4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BFB7-04C4-4993-AED6-0C694545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928B-880E-4C7E-AA89-E75C1786F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3A79-2492-4F8E-BC33-445FCE337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625AD-C447-468A-A6FD-0716634D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0937-26EC-428A-8206-AABFA291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F26A-F981-4EB1-818D-EAF580A9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6AD9-21B8-4E60-A017-8E056A22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0068E-4A6D-45C0-80E5-6CB2591C9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752D-D4DB-489E-BC43-B6366B0F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5F73B-5807-444B-9F81-5AB29975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93C6-76D9-49D3-9895-37F5FEC9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CFCD-7537-4C60-83A3-6070E561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26E6-EADD-411D-962B-128C395FC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0002E-11D5-49B9-834A-277F2E9B6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362-7CB2-4CB3-84B5-2AFCB764E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FAB4-5CCE-4E14-B9B5-F4859519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F5CC-7138-452A-85A1-64CB52E8A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1A98-1042-44D8-AD06-325F768D2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460E-D96F-4621-9D7A-DEBF858D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125C-95DC-4DC4-B736-33E97C07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E3F7-C716-43C6-ADB5-6DAED87D7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33"/>
                </a:solidFill>
                <a:latin typeface="VNI-Helve-Condense"/>
              </a:rPr>
              <a:t>Click to edit the title text format</a:t>
            </a: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VNI-Helve-Condens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NI-Helve-Condens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VNI-Helve-Condens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VNI-Helve-Condens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VNI-Helve-Condens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VNI-Helve-Condens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VNI-Helve-Condens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DFD4-6365-44CA-8A16-E4CE2B9220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logo1" descr=""/>
          <p:cNvPicPr/>
          <p:nvPr/>
        </p:nvPicPr>
        <p:blipFill>
          <a:blip r:embed="rId2">
            <a:lum contrast="42000"/>
          </a:blip>
          <a:stretch/>
        </p:blipFill>
        <p:spPr>
          <a:xfrm>
            <a:off x="8001000" y="228600"/>
            <a:ext cx="914400" cy="48420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>
            <a:off x="685800" y="16002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33"/>
                </a:solidFill>
                <a:latin typeface="VNI-Helve-Condense"/>
              </a:rPr>
              <a:t>Click to edit the title text format</a:t>
            </a: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8B72-F772-4D86-9E25-7D19BF2B5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3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33"/>
                </a:solidFill>
                <a:latin typeface="VNI-Helve"/>
              </a:rPr>
              <a:t>VCCI </a:t>
            </a:r>
            <a:r>
              <a:rPr b="0" lang="en-US" sz="2000" spc="-1" strike="noStrike">
                <a:solidFill>
                  <a:srgbClr val="ccff33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ccff33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ccff33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ccff33"/>
                </a:solidFill>
                <a:latin typeface="VNI-Helve"/>
              </a:rPr>
              <a:t>NICC </a:t>
            </a:r>
            <a:br>
              <a:rPr sz="2000"/>
            </a:br>
            <a:r>
              <a:rPr b="0" lang="en-US" sz="2000" spc="-1" strike="noStrike">
                <a:solidFill>
                  <a:srgbClr val="ccff33"/>
                </a:solidFill>
                <a:latin typeface="VNI-Helve"/>
              </a:rPr>
              <a:t>Vietnam</a:t>
            </a:r>
            <a:r>
              <a:rPr b="0" lang="en-US" sz="2000" spc="-1" strike="noStrike">
                <a:solidFill>
                  <a:srgbClr val="ccff33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ccff33"/>
                </a:solidFill>
                <a:latin typeface="VNI-Helve"/>
              </a:rPr>
              <a:t>	</a:t>
            </a:r>
            <a:r>
              <a:rPr b="0" lang="en-US" sz="2000" spc="-1" strike="noStrike">
                <a:solidFill>
                  <a:srgbClr val="ccff33"/>
                </a:solidFill>
                <a:latin typeface="VNI-Helve"/>
              </a:rPr>
              <a:t>Japan</a:t>
            </a:r>
            <a:r>
              <a:rPr b="0" lang="en-US" sz="2800" spc="-1" strike="noStrike">
                <a:solidFill>
                  <a:srgbClr val="ccff33"/>
                </a:solidFill>
                <a:latin typeface="VNI-Helve"/>
              </a:rPr>
              <a:t> </a:t>
            </a:r>
            <a:endParaRPr b="0" lang="en-US" sz="28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8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300" spc="-1" strike="noStrike">
                <a:solidFill>
                  <a:srgbClr val="ffffff"/>
                </a:solidFill>
                <a:latin typeface="VNI-Helve-Condense"/>
              </a:rPr>
              <a:t>M  T  P</a:t>
            </a:r>
            <a:endParaRPr b="0" lang="en-US" sz="11300" spc="-1" strike="noStrike">
              <a:solidFill>
                <a:srgbClr val="ffffff"/>
              </a:solidFill>
              <a:latin typeface="VNI-Helve-Condense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NI-Helve-Condense"/>
              </a:rPr>
              <a:t>Management Training Program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Caùc nguyeân taéc ñieàu haønh </a:t>
            </a:r>
            <a:br>
              <a:rPr sz="3600"/>
            </a:br>
            <a:r>
              <a:rPr b="1" i="1" lang="en-US" sz="2800" spc="-1" strike="noStrike">
                <a:solidFill>
                  <a:srgbClr val="ffffff"/>
                </a:solidFill>
                <a:latin typeface="VNI-Helve-Condense"/>
              </a:rPr>
              <a:t>Nguyeân taéc 1: Ñieàu haønh thoáng nhaát</a:t>
            </a:r>
            <a:r>
              <a:rPr b="0" lang="en-US" sz="4000" spc="-1" strike="noStrike">
                <a:solidFill>
                  <a:srgbClr val="ccff33"/>
                </a:solidFill>
                <a:latin typeface="VNI-Helve"/>
              </a:rPr>
              <a:t> </a:t>
            </a: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409680" y="1833480"/>
          <a:ext cx="8245440" cy="422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1833480"/>
                    <a:ext cx="8245440" cy="422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"/>
          <p:cNvGrpSpPr/>
          <p:nvPr/>
        </p:nvGrpSpPr>
        <p:grpSpPr>
          <a:xfrm>
            <a:off x="4495680" y="2092320"/>
            <a:ext cx="2819520" cy="3165120"/>
            <a:chOff x="4495680" y="2092320"/>
            <a:chExt cx="2819520" cy="3165120"/>
          </a:xfrm>
        </p:grpSpPr>
        <p:sp>
          <p:nvSpPr>
            <p:cNvPr id="162" name=""/>
            <p:cNvSpPr/>
            <p:nvPr/>
          </p:nvSpPr>
          <p:spPr>
            <a:xfrm>
              <a:off x="4495680" y="2092320"/>
              <a:ext cx="1979280" cy="7696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5680" y="2092320"/>
              <a:ext cx="2819520" cy="316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Caùc nguyeân taéc ñieàu haønh </a:t>
            </a:r>
            <a:br>
              <a:rPr sz="3600"/>
            </a:br>
            <a:r>
              <a:rPr b="1" i="1" lang="en-US" sz="2800" spc="-1" strike="noStrike">
                <a:solidFill>
                  <a:srgbClr val="ffffff"/>
                </a:solidFill>
                <a:latin typeface="VNI-Helve-Condense"/>
              </a:rPr>
              <a:t>Nguyeân taéc 1: Ñieàu haønh thoáng nhaát</a:t>
            </a:r>
            <a:r>
              <a:rPr b="0" lang="en-US" sz="4000" spc="-1" strike="noStrike">
                <a:solidFill>
                  <a:srgbClr val="ccff33"/>
                </a:solidFill>
                <a:latin typeface="VNI-Helve"/>
              </a:rPr>
              <a:t> </a:t>
            </a: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Haõy xem caùc ngoaïi leä cuûa nguyeân taéc moät laø soá ít tröôøng hôïp raát cuï theå.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Thaät tai haïi, neáu: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166" name=""/>
          <p:cNvSpPr/>
          <p:nvPr/>
        </p:nvSpPr>
        <p:spPr>
          <a:xfrm>
            <a:off x="1752480" y="3657600"/>
            <a:ext cx="2133720" cy="18288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NI-Helve-Condense"/>
              </a:rPr>
              <a:t>Ngoaïi le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657600"/>
            <a:ext cx="2133360" cy="1828800"/>
          </a:xfrm>
          <a:prstGeom prst="ellipse">
            <a:avLst/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NI-Helve-Condense"/>
              </a:rPr>
              <a:t>Thoâng le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4572000"/>
            <a:ext cx="1143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2520" y="3757680"/>
            <a:ext cx="1676160" cy="20574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886200" y="4038120"/>
            <a:ext cx="1219320" cy="1295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Caùc nguyeân taéc ñieàu haønh </a:t>
            </a:r>
            <a:br>
              <a:rPr sz="3600"/>
            </a:br>
            <a:r>
              <a:rPr b="1" i="1" lang="en-US" sz="2800" spc="-1" strike="noStrike">
                <a:solidFill>
                  <a:srgbClr val="ffffff"/>
                </a:solidFill>
                <a:latin typeface="VNI-Helve-Condense"/>
              </a:rPr>
              <a:t>Nguyeân taéc 2: Giôùi haïn kieåm soaùt</a:t>
            </a:r>
            <a:r>
              <a:rPr b="0" lang="en-US" sz="4000" spc="-1" strike="noStrike">
                <a:solidFill>
                  <a:srgbClr val="ccff33"/>
                </a:solidFill>
                <a:latin typeface="VNI-Helve"/>
              </a:rPr>
              <a:t> </a:t>
            </a: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2362320"/>
            <a:ext cx="5486400" cy="609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NI-Helve-Condense"/>
              </a:rPr>
              <a:t>Kieåm soaùt ñöôï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2971800"/>
            <a:ext cx="5486400" cy="2606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Khoâng thôø ô vôùi coâng vieäc cuûa N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Taêng khaû naêng nhaän thöùc vai troø cuûa N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Soá löôïng nhaân vieâ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VNI-Helve-Condense"/>
              </a:rPr>
              <a:t>Caùc nguyeân taéc ñieàu haønh</a:t>
            </a: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 </a:t>
            </a:r>
            <a:br>
              <a:rPr sz="3600"/>
            </a:br>
            <a:r>
              <a:rPr b="1" i="1" lang="en-US" sz="2800" spc="-1" strike="noStrike">
                <a:solidFill>
                  <a:srgbClr val="ffffff"/>
                </a:solidFill>
                <a:latin typeface="VNI-Helve-Condense"/>
              </a:rPr>
              <a:t>Nguyeân taéc 3: Keát hôïp nhaän thöùc vaø vai troø</a:t>
            </a:r>
            <a:endParaRPr b="0" lang="en-US" sz="28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Tình huoáng “Coâng vieäc môùi” - P.39.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Caâu hoûi: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-Condense"/>
              </a:rPr>
              <a:t>1. Nhöõng ñieåm gì caàn caân nhaéc khi giao vieäc cho nhaân vieân?</a:t>
            </a:r>
            <a:endParaRPr b="0" lang="en-US" sz="1800" spc="-1" strike="noStrike">
              <a:solidFill>
                <a:srgbClr val="ffffff"/>
              </a:solidFill>
              <a:latin typeface="VNI-Helve-Condense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-Condense"/>
              </a:rPr>
              <a:t>2. Taïi sao coâ Shirakawa maát ñi söï haêng haùi.</a:t>
            </a:r>
            <a:endParaRPr b="0" lang="en-US" sz="1800" spc="-1" strike="noStrike">
              <a:solidFill>
                <a:srgbClr val="ffffff"/>
              </a:solidFill>
              <a:latin typeface="VNI-Helve-Condens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VNI-Helve-Condense"/>
              </a:rPr>
              <a:t>Caùc nguyeân taéc ñieàu haønh</a:t>
            </a: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 </a:t>
            </a:r>
            <a:br>
              <a:rPr sz="3600"/>
            </a:br>
            <a:r>
              <a:rPr b="1" i="1" lang="en-US" sz="2800" spc="-1" strike="noStrike">
                <a:solidFill>
                  <a:srgbClr val="ffffff"/>
                </a:solidFill>
                <a:latin typeface="VNI-Helve-Condense"/>
              </a:rPr>
              <a:t>Nguyeân taéc 3: Keát hôïp nhaän thöùc vaø vai troø</a:t>
            </a:r>
            <a:endParaRPr b="0" lang="en-US" sz="28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Haõy phaân tích coâng vieäc tröôùc khi tìm ngöôøi phuø hôïp.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  <a:p>
            <a:pPr marL="298440" indent="-29844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Haõy tin töôûng vaøo khaû naêng cuûa nhaân vieân khi giao vieäc.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  <a:p>
            <a:pPr marL="298440" indent="-29844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Haõy cho nhaân vieân caûm nhaän ñöôïc vai troø cuûa hoï trong coâng vieäc.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  <a:p>
            <a:pPr marL="298440" indent="-29844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Haõy ñeå nhaân vieân luoân coù ñöôïc nieàm töï haøo: “hoï laø baäc thaày” cuûa coâng vieäc.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</p:txBody>
      </p:sp>
      <p:pic>
        <p:nvPicPr>
          <p:cNvPr id="178" name="consulting" descr=""/>
          <p:cNvPicPr/>
          <p:nvPr/>
        </p:nvPicPr>
        <p:blipFill>
          <a:blip r:embed="rId1"/>
          <a:stretch/>
        </p:blipFill>
        <p:spPr>
          <a:xfrm>
            <a:off x="5638680" y="2209680"/>
            <a:ext cx="2752920" cy="36576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0" y="2438280"/>
            <a:ext cx="3657600" cy="27432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VNI-Helve-Condense"/>
              </a:rPr>
              <a:t>Caùc nguyeân taéc ñieàu haønh</a:t>
            </a: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 </a:t>
            </a:r>
            <a:br>
              <a:rPr sz="3600"/>
            </a:br>
            <a:r>
              <a:rPr b="1" i="1" lang="en-US" sz="2800" spc="-1" strike="noStrike">
                <a:solidFill>
                  <a:srgbClr val="ffffff"/>
                </a:solidFill>
                <a:latin typeface="VNI-Helve-Condense"/>
              </a:rPr>
              <a:t>Nguyeân taéc 4: Söï uûy quyeàn</a:t>
            </a:r>
            <a:endParaRPr b="0" lang="en-US" sz="28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0" y="3657600"/>
            <a:ext cx="2666880" cy="23623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VNI-Helve-Condense"/>
              </a:rPr>
              <a:t>Theå hieän söï ñoäc laäp cuûa nhaân vieân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  <a:p>
            <a:pPr marL="274320" indent="-27432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VNI-Helve-Condense"/>
              </a:rPr>
              <a:t>Phaùt huy tính saùng taïo cuûa nhaân vieân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3276720"/>
            <a:ext cx="2895840" cy="12189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VNI-Helve-Condense"/>
              </a:rPr>
              <a:t>Ñònh höôù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VNI-Helve-Condense"/>
              </a:rPr>
              <a:t>Phaân quyeà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057400"/>
            <a:ext cx="2895840" cy="5335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50000"/>
              </a:lnSpc>
              <a:spcBef>
                <a:spcPts val="499"/>
              </a:spcBef>
              <a:buClr>
                <a:srgbClr val="ff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44"/>
                </a:solidFill>
                <a:latin typeface="VNI-Helve-Condense"/>
              </a:rPr>
              <a:t>Muïc tieâu coâng vieä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2590920"/>
            <a:ext cx="0" cy="685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5181480"/>
            <a:ext cx="22096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4495680"/>
            <a:ext cx="0" cy="68580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VNI-Helve-Condense"/>
              </a:rPr>
              <a:t>Caùc nguyeân taéc ñieàu haønh</a:t>
            </a: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 </a:t>
            </a:r>
            <a:br>
              <a:rPr sz="3600"/>
            </a:br>
            <a:r>
              <a:rPr b="1" i="1" lang="en-US" sz="2800" spc="-1" strike="noStrike">
                <a:solidFill>
                  <a:srgbClr val="ffffff"/>
                </a:solidFill>
                <a:latin typeface="VNI-Helve-Condense"/>
              </a:rPr>
              <a:t>Kyû thuaät uyû thaùc</a:t>
            </a:r>
            <a:endParaRPr b="0" lang="en-US" sz="28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1828800"/>
            <a:ext cx="449568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NI-Helve-Condense"/>
              </a:rPr>
              <a:t>Theo doõi/ Kieåm soaù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2590920"/>
            <a:ext cx="449604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NI-Helve-Condense"/>
              </a:rPr>
              <a:t>Kieåm tra thoâng tin phaûn hoà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95480" y="3429000"/>
            <a:ext cx="449604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NI-Helve-Condense"/>
              </a:rPr>
              <a:t>Thoaû thuaän thôøi haïn hoaøn thaøn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4267080"/>
            <a:ext cx="449568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NI-Helve-Condense"/>
              </a:rPr>
              <a:t>Xaùc ñònh quyeàn haï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5029200"/>
            <a:ext cx="449604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NI-Helve-Condense"/>
              </a:rPr>
              <a:t>Xaùc ñònh keát quaû mong muoán (SMA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5791320"/>
            <a:ext cx="4496040" cy="457200"/>
          </a:xfrm>
          <a:prstGeom prst="rect">
            <a:avLst/>
          </a:prstGeom>
          <a:solidFill>
            <a:srgbClr val="ff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NI-Helve-Condense"/>
              </a:rPr>
              <a:t>Giaûi thích taïi sao coâng vieäc quan troï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54100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470844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39466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310824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22860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5238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CMENO074" descr=""/>
          <p:cNvPicPr/>
          <p:nvPr/>
        </p:nvPicPr>
        <p:blipFill>
          <a:blip r:embed="rId1"/>
          <a:stretch/>
        </p:blipFill>
        <p:spPr>
          <a:xfrm>
            <a:off x="6019920" y="3962520"/>
            <a:ext cx="28954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33"/>
                </a:solidFill>
                <a:latin typeface="VNI-Helve-Condense"/>
              </a:rPr>
              <a:t>SMART</a:t>
            </a:r>
            <a:r>
              <a:rPr b="0" lang="en-US" sz="4000" spc="-1" strike="noStrike">
                <a:solidFill>
                  <a:srgbClr val="ccff33"/>
                </a:solidFill>
                <a:latin typeface="VNI-Helve-Condense"/>
              </a:rPr>
              <a:t> trong muïc tieâu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34290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ff33"/>
              </a:buClr>
              <a:buFont typeface="VNI-Helve-Condens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VNI-Helve-Condense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pecific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ff33"/>
              </a:buClr>
              <a:buFont typeface="VNI-Helve-Condens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VNI-Helve-Condense"/>
              </a:rPr>
              <a:t>M</a:t>
            </a: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easurable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ff33"/>
              </a:buClr>
              <a:buFont typeface="VNI-Helve-Condens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VNI-Helve-Condense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ttainable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ff33"/>
              </a:buClr>
              <a:buFont typeface="VNI-Helve-Condens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VNI-Helve-Condense"/>
              </a:rPr>
              <a:t>R</a:t>
            </a: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esult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ccff33"/>
              </a:buClr>
              <a:buFont typeface="VNI-Helve-Condens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VNI-Helve-Condense"/>
              </a:rPr>
              <a:t>T</a:t>
            </a:r>
            <a:r>
              <a:rPr b="0" lang="en-US" sz="2800" spc="-1" strike="noStrike">
                <a:solidFill>
                  <a:srgbClr val="ffffff"/>
                </a:solidFill>
                <a:latin typeface="VNI-Helve-Condense"/>
              </a:rPr>
              <a:t>ime</a:t>
            </a:r>
            <a:endParaRPr b="0" lang="en-US" sz="2800" spc="-1" strike="noStrike">
              <a:solidFill>
                <a:srgbClr val="ffffff"/>
              </a:solidFill>
              <a:latin typeface="VNI-Helve-Condense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724280" y="1447920"/>
            <a:ext cx="3581280" cy="5238720"/>
            <a:chOff x="4724280" y="1447920"/>
            <a:chExt cx="3581280" cy="5238720"/>
          </a:xfrm>
        </p:grpSpPr>
        <p:pic>
          <p:nvPicPr>
            <p:cNvPr id="204" name="CLIPB002" descr=""/>
            <p:cNvPicPr/>
            <p:nvPr/>
          </p:nvPicPr>
          <p:blipFill>
            <a:blip r:embed="rId1"/>
            <a:stretch/>
          </p:blipFill>
          <p:spPr>
            <a:xfrm>
              <a:off x="4724280" y="1447920"/>
              <a:ext cx="3581280" cy="52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5029200" y="2272320"/>
              <a:ext cx="2689200" cy="255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NI-Helve-Condense"/>
                </a:rPr>
                <a:t>S…cuï theå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NI-Helve-Condense"/>
                </a:rPr>
                <a:t>M…ño löôøng ñöôï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NI-Helve-Condense"/>
                </a:rPr>
                <a:t>A…ñaït ñöôïc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NI-Helve-Condense"/>
                </a:rPr>
                <a:t>R…höôùng ñeán keát quaû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VNI-Helve-Condense"/>
                </a:rPr>
                <a:t>T…coù thôøi gi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712040" y="4724280"/>
            <a:ext cx="108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NI-Commerce"/>
              </a:rPr>
              <a:t>thôøi gi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33"/>
                </a:solidFill>
                <a:latin typeface="VNI-Helve-Condense"/>
              </a:rPr>
              <a:t>04 nguyeân taéc ñieàu haønh</a:t>
            </a: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 </a:t>
            </a:r>
            <a:endParaRPr b="0" lang="en-US" sz="36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2971800"/>
            <a:ext cx="2057400" cy="20574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Helve-Condense"/>
              </a:rPr>
              <a:t>04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Helve-Condense"/>
              </a:rPr>
              <a:t>nguyeâ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NI-Helve-Condense"/>
              </a:rPr>
              <a:t>taé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3920" y="2133720"/>
            <a:ext cx="4114800" cy="685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NI-Helve-Condense"/>
              </a:rPr>
              <a:t>Ñieàu haønh thoáng nhaá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3200400"/>
            <a:ext cx="4114800" cy="685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NI-Helve-Condense"/>
              </a:rPr>
              <a:t>Giôùi haïn kieåm soaù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33920" y="4343400"/>
            <a:ext cx="4114800" cy="685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NI-Helve-Condense"/>
              </a:rPr>
              <a:t>Keát hôïp nhaän thöùc vai tro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9880" y="5410080"/>
            <a:ext cx="4114800" cy="685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NI-Helve-Condense"/>
              </a:rPr>
              <a:t>Giao quyeà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2895480" y="3581280"/>
            <a:ext cx="76212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83600" y="4170960"/>
            <a:ext cx="786600" cy="496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2895480" y="2590560"/>
            <a:ext cx="838440" cy="15238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914200" y="4213080"/>
            <a:ext cx="1029600" cy="1402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2280" y="2362320"/>
            <a:ext cx="8991720" cy="32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800" spc="-1" strike="noStrike">
                <a:solidFill>
                  <a:srgbClr val="003366"/>
                </a:solidFill>
                <a:latin typeface="Times New Roman"/>
              </a:rPr>
              <a:t>training</a:t>
            </a:r>
            <a:endParaRPr b="0" lang="en-US" sz="20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114440" y="-360"/>
            <a:ext cx="152388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Giao vieäc khoâng phaûi ñoå ñaày xoâ nöôùc maø laø thaép leân ngoïn löûa</a:t>
            </a:r>
            <a:endParaRPr b="0" lang="en-US" sz="2400" spc="-1" strike="noStrike">
              <a:solidFill>
                <a:srgbClr val="ccff33"/>
              </a:solidFill>
              <a:latin typeface="VNI-Helve-Condense"/>
            </a:endParaRPr>
          </a:p>
        </p:txBody>
      </p:sp>
      <p:pic>
        <p:nvPicPr>
          <p:cNvPr id="219" name="Copy%20of%20J007870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2895480" cy="2585880"/>
          </a:xfrm>
          <a:prstGeom prst="rect">
            <a:avLst/>
          </a:prstGeom>
          <a:ln w="0">
            <a:noFill/>
          </a:ln>
        </p:spPr>
      </p:pic>
      <p:pic>
        <p:nvPicPr>
          <p:cNvPr id="220" name="AG00355_" descr=""/>
          <p:cNvPicPr/>
          <p:nvPr/>
        </p:nvPicPr>
        <p:blipFill>
          <a:blip r:embed="rId2"/>
          <a:stretch/>
        </p:blipFill>
        <p:spPr>
          <a:xfrm>
            <a:off x="6019920" y="1219320"/>
            <a:ext cx="2498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33"/>
                </a:solidFill>
                <a:latin typeface="VNI-Helve"/>
              </a:rPr>
              <a:t>Baøi 2</a:t>
            </a: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NI-Helve"/>
              </a:rPr>
              <a:t>Nguyeân taéc </a:t>
            </a:r>
            <a:endParaRPr b="0" lang="en-US" sz="6000" spc="-1" strike="noStrike">
              <a:solidFill>
                <a:srgbClr val="ffffff"/>
              </a:solidFill>
              <a:latin typeface="VNI-Helve-Condense"/>
            </a:endParaRPr>
          </a:p>
          <a:p>
            <a:pPr marL="343080" indent="-343080" algn="ctr">
              <a:lnSpc>
                <a:spcPct val="120000"/>
              </a:lnSpc>
              <a:spcBef>
                <a:spcPts val="1500"/>
              </a:spcBef>
              <a:buClr>
                <a:srgbClr val="ffffff"/>
              </a:buClr>
              <a:buFont typeface="VNI-Hel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NI-Helve"/>
              </a:rPr>
              <a:t>ñieàu haønh toå chöùc</a:t>
            </a:r>
            <a:endParaRPr b="0" lang="en-US" sz="6000" spc="-1" strike="noStrike">
              <a:solidFill>
                <a:srgbClr val="ffffff"/>
              </a:solidFill>
              <a:latin typeface="VNI-Helve-Condens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Toå chöùc laø gì ?  </a:t>
            </a:r>
            <a:endParaRPr b="0" lang="en-US" sz="3600" spc="-1" strike="noStrike">
              <a:solidFill>
                <a:srgbClr val="ccff33"/>
              </a:solidFill>
              <a:latin typeface="VNI-Helve-Condense"/>
            </a:endParaRPr>
          </a:p>
        </p:txBody>
      </p:sp>
      <p:pic>
        <p:nvPicPr>
          <p:cNvPr id="106" name="bnahead_01" descr=""/>
          <p:cNvPicPr/>
          <p:nvPr/>
        </p:nvPicPr>
        <p:blipFill>
          <a:blip r:embed="rId1"/>
          <a:stretch/>
        </p:blipFill>
        <p:spPr>
          <a:xfrm>
            <a:off x="6400800" y="0"/>
            <a:ext cx="1600200" cy="16002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6095880" y="1066680"/>
            <a:ext cx="2057400" cy="1143000"/>
            <a:chOff x="6095880" y="1066680"/>
            <a:chExt cx="2057400" cy="1143000"/>
          </a:xfrm>
        </p:grpSpPr>
        <p:sp>
          <p:nvSpPr>
            <p:cNvPr id="108" name=""/>
            <p:cNvSpPr/>
            <p:nvPr/>
          </p:nvSpPr>
          <p:spPr>
            <a:xfrm flipV="1">
              <a:off x="6298200" y="1066680"/>
              <a:ext cx="1416600" cy="11073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95880" y="1066680"/>
              <a:ext cx="2057400" cy="1143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0" name="CMENO005" descr=""/>
          <p:cNvPicPr/>
          <p:nvPr/>
        </p:nvPicPr>
        <p:blipFill>
          <a:blip r:embed="rId2"/>
          <a:stretch/>
        </p:blipFill>
        <p:spPr>
          <a:xfrm>
            <a:off x="2438280" y="2362320"/>
            <a:ext cx="3838680" cy="332424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2819520" y="3962520"/>
            <a:ext cx="2743200" cy="1523880"/>
            <a:chOff x="2819520" y="3962520"/>
            <a:chExt cx="2743200" cy="1523880"/>
          </a:xfrm>
        </p:grpSpPr>
        <p:sp>
          <p:nvSpPr>
            <p:cNvPr id="112" name=""/>
            <p:cNvSpPr/>
            <p:nvPr/>
          </p:nvSpPr>
          <p:spPr>
            <a:xfrm flipV="1">
              <a:off x="3089160" y="3962520"/>
              <a:ext cx="1888560" cy="1476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819520" y="3962520"/>
              <a:ext cx="2743200" cy="15238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Toå chöùc laø gì ?  </a:t>
            </a:r>
            <a:endParaRPr b="0" lang="en-US" sz="3600" spc="-1" strike="noStrike">
              <a:solidFill>
                <a:srgbClr val="ccff33"/>
              </a:solidFill>
              <a:latin typeface="VNI-Helve-Condense"/>
            </a:endParaRPr>
          </a:p>
        </p:txBody>
      </p:sp>
      <p:pic>
        <p:nvPicPr>
          <p:cNvPr id="115" name="management_training" descr=""/>
          <p:cNvPicPr/>
          <p:nvPr/>
        </p:nvPicPr>
        <p:blipFill>
          <a:blip r:embed="rId1"/>
          <a:stretch/>
        </p:blipFill>
        <p:spPr>
          <a:xfrm>
            <a:off x="2878200" y="1905120"/>
            <a:ext cx="3427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Toå chöùc laø ...</a:t>
            </a:r>
            <a:r>
              <a:rPr b="0" lang="en-US" sz="4000" spc="-1" strike="noStrike">
                <a:solidFill>
                  <a:srgbClr val="ccff33"/>
                </a:solidFill>
                <a:latin typeface="VNI-Helve"/>
              </a:rPr>
              <a:t> </a:t>
            </a: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1981080"/>
            <a:ext cx="5715000" cy="41911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1080" y="3200400"/>
            <a:ext cx="2743200" cy="1828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-Condense"/>
              </a:rPr>
              <a:t>Nhoù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-Condense"/>
              </a:rPr>
              <a:t>coâng vieä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3200400"/>
            <a:ext cx="2743200" cy="182880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-Condense"/>
              </a:rPr>
              <a:t>Nhoùm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-Condense"/>
              </a:rPr>
              <a:t>con ngöôø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48120" y="251460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NI-Helve-Condense"/>
              </a:rPr>
              <a:t>Muïc tieâu chu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Toå chöùc laø ...</a:t>
            </a:r>
            <a:r>
              <a:rPr b="0" lang="en-US" sz="4000" spc="-1" strike="noStrike">
                <a:solidFill>
                  <a:srgbClr val="ccff33"/>
                </a:solidFill>
                <a:latin typeface="VNI-Helve"/>
              </a:rPr>
              <a:t> </a:t>
            </a: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1676520"/>
            <a:ext cx="5715000" cy="48006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1752480"/>
            <a:ext cx="4267080" cy="2590920"/>
          </a:xfrm>
          <a:prstGeom prst="ellipse">
            <a:avLst/>
          </a:prstGeom>
          <a:solidFill>
            <a:srgbClr val="33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-Condense"/>
              </a:rPr>
              <a:t>COÂNG VIEÄ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3962520"/>
            <a:ext cx="4038840" cy="2438280"/>
          </a:xfrm>
          <a:prstGeom prst="ellipse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-Condense"/>
              </a:rPr>
              <a:t>CON NGÖÔØ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38862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NI-Helve-Condense"/>
              </a:rPr>
              <a:t>Quaû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19810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Hoaïch ñòn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35812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Kieåm 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35812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Toå chöù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57600" y="419112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Laõnh ñaï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38280" y="5715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Giao tieá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5715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Ñoäng vieâ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4343040" y="243828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19794000">
            <a:off x="3352320" y="3352320"/>
            <a:ext cx="381240" cy="152640"/>
          </a:xfrm>
          <a:prstGeom prst="rightArrow">
            <a:avLst>
              <a:gd name="adj1" fmla="val 50000"/>
              <a:gd name="adj2" fmla="val 6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19794000">
            <a:off x="3352680" y="548604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2391800">
            <a:off x="5105520" y="3352680"/>
            <a:ext cx="380880" cy="152640"/>
          </a:xfrm>
          <a:prstGeom prst="rightArrow">
            <a:avLst>
              <a:gd name="adj1" fmla="val 50000"/>
              <a:gd name="adj2" fmla="val 6238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12391800">
            <a:off x="5105520" y="548568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4343040" y="461016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414840" y="3886200"/>
            <a:ext cx="7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VNI-Helve-Condense"/>
              </a:rPr>
              <a:t>ly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09480" y="609480"/>
            <a:ext cx="8083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33"/>
                </a:solidFill>
                <a:latin typeface="VNI-Helve-Condense"/>
              </a:rPr>
              <a:t>Neáu khoâng coù nguyeân taéc toå chöùc,..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74760" y="990720"/>
            <a:ext cx="8762400" cy="5867280"/>
            <a:chOff x="374760" y="990720"/>
            <a:chExt cx="8762400" cy="5867280"/>
          </a:xfrm>
        </p:grpSpPr>
        <p:pic>
          <p:nvPicPr>
            <p:cNvPr id="141" name="CMEN046" descr=""/>
            <p:cNvPicPr/>
            <p:nvPr/>
          </p:nvPicPr>
          <p:blipFill>
            <a:blip r:embed="rId1"/>
            <a:stretch/>
          </p:blipFill>
          <p:spPr>
            <a:xfrm>
              <a:off x="450720" y="1371600"/>
              <a:ext cx="190476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CMENO018" descr=""/>
            <p:cNvPicPr/>
            <p:nvPr/>
          </p:nvPicPr>
          <p:blipFill>
            <a:blip r:embed="rId2"/>
            <a:stretch/>
          </p:blipFill>
          <p:spPr>
            <a:xfrm>
              <a:off x="3498840" y="1371600"/>
              <a:ext cx="2209320" cy="11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CMENO022" descr=""/>
            <p:cNvPicPr/>
            <p:nvPr/>
          </p:nvPicPr>
          <p:blipFill>
            <a:blip r:embed="rId3"/>
            <a:stretch/>
          </p:blipFill>
          <p:spPr>
            <a:xfrm>
              <a:off x="527040" y="3429000"/>
              <a:ext cx="2437920" cy="10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CMENO040" descr=""/>
            <p:cNvPicPr/>
            <p:nvPr/>
          </p:nvPicPr>
          <p:blipFill>
            <a:blip r:embed="rId4"/>
            <a:stretch/>
          </p:blipFill>
          <p:spPr>
            <a:xfrm>
              <a:off x="6732360" y="990720"/>
              <a:ext cx="1947600" cy="150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CMENO084" descr=""/>
            <p:cNvPicPr/>
            <p:nvPr/>
          </p:nvPicPr>
          <p:blipFill>
            <a:blip r:embed="rId5"/>
            <a:stretch/>
          </p:blipFill>
          <p:spPr>
            <a:xfrm>
              <a:off x="374760" y="5257800"/>
              <a:ext cx="201420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CMENO005" descr=""/>
            <p:cNvPicPr/>
            <p:nvPr/>
          </p:nvPicPr>
          <p:blipFill>
            <a:blip r:embed="rId6"/>
            <a:stretch/>
          </p:blipFill>
          <p:spPr>
            <a:xfrm>
              <a:off x="3803400" y="4800600"/>
              <a:ext cx="2071440" cy="17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CMENO088" descr=""/>
            <p:cNvPicPr/>
            <p:nvPr/>
          </p:nvPicPr>
          <p:blipFill>
            <a:blip r:embed="rId7"/>
            <a:stretch/>
          </p:blipFill>
          <p:spPr>
            <a:xfrm>
              <a:off x="6713280" y="4800600"/>
              <a:ext cx="2423880" cy="177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MENO036" descr=""/>
            <p:cNvPicPr/>
            <p:nvPr/>
          </p:nvPicPr>
          <p:blipFill>
            <a:blip r:embed="rId8"/>
            <a:stretch/>
          </p:blipFill>
          <p:spPr>
            <a:xfrm>
              <a:off x="3803400" y="3048120"/>
              <a:ext cx="1904760" cy="147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CWMNO011" descr=""/>
            <p:cNvPicPr/>
            <p:nvPr/>
          </p:nvPicPr>
          <p:blipFill>
            <a:blip r:embed="rId9"/>
            <a:stretch/>
          </p:blipFill>
          <p:spPr>
            <a:xfrm>
              <a:off x="7003800" y="2523960"/>
              <a:ext cx="1552320" cy="2200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Caùc nguyeân taéc ñieàu haønh </a:t>
            </a:r>
            <a:br>
              <a:rPr sz="3600"/>
            </a:br>
            <a:r>
              <a:rPr b="1" i="1" lang="en-US" sz="2800" spc="-1" strike="noStrike">
                <a:solidFill>
                  <a:srgbClr val="ffffff"/>
                </a:solidFill>
                <a:latin typeface="VNI-Helve-Condense"/>
              </a:rPr>
              <a:t>Nguyeân taéc 1: Ñieàu haønh thoáng nhaát</a:t>
            </a:r>
            <a:r>
              <a:rPr b="0" lang="en-US" sz="4000" spc="-1" strike="noStrike">
                <a:solidFill>
                  <a:srgbClr val="ccff33"/>
                </a:solidFill>
                <a:latin typeface="VNI-Helve"/>
              </a:rPr>
              <a:t> </a:t>
            </a: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Thaûo luaän nhoùm tình huoáng p.32.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-Condense"/>
              </a:rPr>
              <a:t>Caâu hoûi:</a:t>
            </a:r>
            <a:endParaRPr b="0" lang="en-US" sz="2000" spc="-1" strike="noStrike">
              <a:solidFill>
                <a:srgbClr val="ffffff"/>
              </a:solidFill>
              <a:latin typeface="VNI-Helve-Condense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-Condense"/>
              </a:rPr>
              <a:t>1. A/C nghó gì veà caáu truùc Coâng ty khi oâng Yoneda ñöôïc chæ ñöôïc chæ ñaïo tröïc tieáp töø oâng Tanaka?</a:t>
            </a:r>
            <a:endParaRPr b="0" lang="en-US" sz="1800" spc="-1" strike="noStrike">
              <a:solidFill>
                <a:srgbClr val="ffffff"/>
              </a:solidFill>
              <a:latin typeface="VNI-Helve-Condense"/>
            </a:endParaRPr>
          </a:p>
          <a:p>
            <a:pPr lvl="1" marL="74304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NI-Helve-Condense"/>
              </a:rPr>
              <a:t>2. Chuyeän gì xaûy ra neáu Oâng Tanaka tieáp tuïc nhö theá? Taïi sao?</a:t>
            </a:r>
            <a:endParaRPr b="0" lang="en-US" sz="1800" spc="-1" strike="noStrike">
              <a:solidFill>
                <a:srgbClr val="ffffff"/>
              </a:solidFill>
              <a:latin typeface="VNI-Helve-Condens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33"/>
                </a:solidFill>
                <a:latin typeface="VNI-Helve-Condense"/>
              </a:rPr>
              <a:t>Caùc nguyeân taéc ñieàu haønh </a:t>
            </a:r>
            <a:br>
              <a:rPr sz="3600"/>
            </a:br>
            <a:r>
              <a:rPr b="1" i="1" lang="en-US" sz="2800" spc="-1" strike="noStrike">
                <a:solidFill>
                  <a:srgbClr val="ffffff"/>
                </a:solidFill>
                <a:latin typeface="VNI-Helve-Condense"/>
              </a:rPr>
              <a:t>Nguyeân taéc 1: Ñieàu haønh thoáng nhaát</a:t>
            </a:r>
            <a:r>
              <a:rPr b="0" lang="en-US" sz="4000" spc="-1" strike="noStrike">
                <a:solidFill>
                  <a:srgbClr val="ccff33"/>
                </a:solidFill>
                <a:latin typeface="VNI-Helve"/>
              </a:rPr>
              <a:t> </a:t>
            </a:r>
            <a:endParaRPr b="0" lang="en-US" sz="4000" spc="-1" strike="noStrike">
              <a:solidFill>
                <a:srgbClr val="ccff33"/>
              </a:solidFill>
              <a:latin typeface="VNI-Helve-Condense"/>
            </a:endParaRPr>
          </a:p>
        </p:txBody>
      </p:sp>
      <p:sp>
        <p:nvSpPr>
          <p:cNvPr id="153" name=""/>
          <p:cNvSpPr/>
          <p:nvPr/>
        </p:nvSpPr>
        <p:spPr>
          <a:xfrm>
            <a:off x="6172200" y="1981080"/>
            <a:ext cx="1143000" cy="4191120"/>
          </a:xfrm>
          <a:prstGeom prst="rect">
            <a:avLst/>
          </a:prstGeom>
          <a:solidFill>
            <a:srgbClr val="ccff33"/>
          </a:solidFill>
          <a:ln w="0">
            <a:noFill/>
          </a:ln>
          <a:effectLst>
            <a:outerShdw dist="107932" dir="189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VNI-Helve-Condense"/>
              </a:rPr>
              <a:t>Thoá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VNI-Helve-Condens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VNI-Helve-Condense"/>
              </a:rPr>
              <a:t>nhaá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2362320"/>
            <a:ext cx="4800600" cy="1143000"/>
          </a:xfrm>
          <a:prstGeom prst="rightArrow">
            <a:avLst>
              <a:gd name="adj1" fmla="val 50000"/>
              <a:gd name="adj2" fmla="val 105000"/>
            </a:avLst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-Condense"/>
              </a:rPr>
              <a:t>Xaùc ñònh vò trí roõ raø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4191120"/>
            <a:ext cx="4800600" cy="1143000"/>
          </a:xfrm>
          <a:prstGeom prst="rightArrow">
            <a:avLst>
              <a:gd name="adj1" fmla="val 50000"/>
              <a:gd name="adj2" fmla="val 105000"/>
            </a:avLst>
          </a:prstGeom>
          <a:solidFill>
            <a:srgbClr val="ff9900"/>
          </a:solidFill>
          <a:ln w="0">
            <a:noFill/>
          </a:ln>
          <a:effectLst>
            <a:outerShdw dist="107932" dir="18900000" blurRad="0" rotWithShape="0">
              <a:srgbClr val="66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NI-Helve-Condense"/>
              </a:rPr>
              <a:t>Meänh leänh töø 01 caáp treâ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32767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Haõy xaùc ñònh traùch nhieäm, nghóa vu, vai troø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51055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NI-Helve-Condense"/>
              </a:rPr>
              <a:t>Haõy toân troïng vai troø caáp trung gia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7T08:27:08Z</dcterms:created>
  <dc:creator>User</dc:creator>
  <dc:description/>
  <dc:language>en-US</dc:language>
  <cp:lastModifiedBy> THAI TUAN CHI</cp:lastModifiedBy>
  <cp:lastPrinted>2003-10-02T04:51:23Z</cp:lastPrinted>
  <dcterms:modified xsi:type="dcterms:W3CDTF">2003-10-14T22:05:42Z</dcterms:modified>
  <cp:revision>51</cp:revision>
  <dc:subject/>
  <dc:title>VCCI    NICC  Vietnam  Japan </dc:title>
</cp:coreProperties>
</file>