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CAMERA.WAV" ContentType="audio/x-wav"/>
  <Override PartName="/ppt/media/LASER.WAV" ContentType="audio/x-wav"/>
  <Override PartName="/ppt/media/WHOOSH.WAV" ContentType="audio/x-wav"/>
  <Override PartName="/ppt/media/CARBRAKE.WAV" ContentType="audio/x-wav"/>
  <Override PartName="/ppt/media/image9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AC2-3D71-4E15-9A1E-ACCA5C4A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6103-409E-46C0-A40D-D7BCBF97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8724-D40D-4A51-AC13-E0D5D22C2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D45A-B1BD-4267-A9CD-71B8432B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C4B9-8615-4C70-B7C6-B10661EE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52FF-17F3-4981-AAF9-FFFC2B20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F231-BA7F-4405-A046-5B791FD3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1C8A-752E-4435-BA4C-452A3A81A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8A5F-BA09-435E-8FEE-2F845EFF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8902-340F-481D-B157-0B45C6DC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734A-87DE-49DA-A533-47A55F84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CC9-8B62-4CED-9E8E-7B185DB30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F87C-777B-4A86-BA92-ED58639A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304D-94DE-494A-8DCF-C4C01D819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337E-DA9B-43C1-8B8A-A21FE39F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FFBE-C6F8-4F60-9D35-8A437458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57C1-83DB-4BA3-BA4D-7BE40B24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F494-2EF9-4A97-B45E-18D77F25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D99-3B1F-48CF-9342-F8174CAF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1E1E-4858-4ED1-99F8-B0070A39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0A10-0768-4214-8F79-8658DCF4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0D0-0801-48EF-B97C-2860BC0A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E4F-523B-4707-865C-6D407AAC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312F-53BD-418B-BB91-07BCABE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935B-9230-4DAB-A0A1-DC88E6F6AB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9F2D-3427-406E-9BB7-C442555E02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audio" Target="../media/CARBRAKE.WAV"/><Relationship Id="rId6" Type="http://schemas.openxmlformats.org/officeDocument/2006/relationships/audio" Target="../media/WHOOSH.WAV"/><Relationship Id="rId7" Type="http://schemas.openxmlformats.org/officeDocument/2006/relationships/audio" Target="../media/CAMERA.WAV"/><Relationship Id="rId8" Type="http://schemas.openxmlformats.org/officeDocument/2006/relationships/audio" Target="../media/LASER.WAV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33120"/>
            <a:ext cx="4343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ff6699"/>
                </a:solidFill>
                <a:uFillTx/>
                <a:latin typeface="VNI-Bodon"/>
              </a:rPr>
              <a:t>LAÄP KEÁ HOAÏCH LAØ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2400480"/>
            <a:ext cx="464796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oång hôïp naêng löïc, döï ñoaùn tình hình trong töông lai, ñöa ra phöông phaùp giaûi quyeát theo trình töï coâng vieäc nhaèm ñaït muïc tieâ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öông lai cuûa toå chöùc naèm trong vieäc laäp keá hoaïc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aïo khaû naêng saùng taï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029200" y="3102120"/>
            <a:ext cx="342900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42674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ffcc66"/>
                </a:solidFill>
                <a:uFillTx/>
                <a:latin typeface="VNI-Bodon"/>
              </a:rPr>
              <a:t>CAÙC DAÏNG KEÁ HOAÏCH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360" y="2324160"/>
            <a:ext cx="495288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1.</a:t>
            </a:r>
            <a:r>
              <a:rPr b="0" lang="en-US" sz="2000" spc="-1" strike="noStrike">
                <a:solidFill>
                  <a:srgbClr val="ffcc66"/>
                </a:solidFill>
                <a:latin typeface="VNI-Times"/>
              </a:rPr>
              <a:t> 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eá hoaïch ngaén, trung, daøi haï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2.  Keá hoaïch phoøng ban, keá hoaïch toång hôïp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524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cc"/>
                </a:solidFill>
                <a:latin typeface="VNI-Times"/>
              </a:rPr>
              <a:t>3. Keá hoaïch vaät löôïng, keá hoaïch giaù caû.</a:t>
            </a:r>
            <a:endParaRPr b="0" lang="en-US" sz="21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4. Keá hoaïch caáu taï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609640" cy="39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1440" y="894960"/>
            <a:ext cx="6782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9933ff"/>
                </a:solidFill>
                <a:uFillTx/>
                <a:latin typeface="VNI-Bodon"/>
              </a:rPr>
              <a:t>NHÖÕNG ÑIEÅM LÖU YÙ KHI LAÄP KEÁ HOAÏCH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2171880"/>
            <a:ext cx="7238880" cy="333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Söï cöông quyeát vaø muïc tieâu cuûa laûnh ñaïo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Ñaõ moät laàn naøo löïa choïn muïc tieâu keá hoaïch khoâng hoaøn thaønh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Söï hôïp taùc cuûa nhöõng ngöôøi lieân quan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raùch nhieäm phaân coâng, ñieàu kieän hoaït ñoä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oâng tin phaûn hoài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Quaù töï tin hay trì treä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Laïc quan hay naûn chí? Ñaùnh giaù ñoái thuû caïnh tran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Phaân tích thoâng tin ñaày ñuû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63960" indent="-36396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Font typeface="VNI-Times"/>
              <a:buAutoNum type="arabicPeriod"/>
              <a:tabLst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Loãi chuû qua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934320" y="3581280"/>
          <a:ext cx="19810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4320" y="3581280"/>
                    <a:ext cx="19810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160" y="85680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ff66ff"/>
                </a:solidFill>
                <a:uFillTx/>
                <a:latin typeface="VNI-Bodon"/>
              </a:rPr>
              <a:t>NHÖÕNG ÑIEÅM KIEÅM TRA KHI LAÄP KEÁ HOAÏCH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396216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1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Ñònh ra muïc tieâu roõ raø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2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u thaäp döõ lieä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3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Suy nghó veà döõ lieä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4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hoïn phöông phaùp thöïc hieä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5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öïc hieä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0168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6. 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heo doõi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638680" y="3200400"/>
            <a:ext cx="288792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9140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 u="sng">
                <a:solidFill>
                  <a:srgbClr val="9966ff"/>
                </a:solidFill>
                <a:uFillTx/>
                <a:latin typeface="VNI-Bodon"/>
              </a:rPr>
              <a:t>CAÙC BÖÔÙC TIEÁN HAØNH KHI LAÄP KEÁ HOAÏCH: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62520" y="2409840"/>
          <a:ext cx="4647960" cy="390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409840"/>
                    <a:ext cx="4647960" cy="390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1738440" y="4911840"/>
            <a:ext cx="361476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2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1. </a:t>
            </a:r>
            <a:r>
              <a:rPr b="0" lang="en-US" sz="20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Ñònh ra muïc tieâu roõ raø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4760" y="4292640"/>
            <a:ext cx="27320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3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2. 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Naém baét thöïc teá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87800" y="3692520"/>
            <a:ext cx="27320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3. 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Xem xeùt döõ lieä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65520" y="3102120"/>
            <a:ext cx="307368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4. 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Laäp keá hoaïch sô boä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11640" y="2482920"/>
            <a:ext cx="3270240" cy="4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5. 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	</a:t>
            </a:r>
            <a:r>
              <a:rPr b="0" lang="en-US" sz="2000" spc="-1" strike="noStrike">
                <a:solidFill>
                  <a:srgbClr val="00ff00"/>
                </a:solidFill>
                <a:latin typeface="VNI-Times"/>
              </a:rPr>
              <a:t>Quyeát ñònh keá hoaïch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80520" y="1930320"/>
            <a:ext cx="5715000" cy="439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eá hoaïïch seõ chuaån xaùc hôn do ñöôïc kieåm tra töø nhieàu khía caïn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taäp trung trí tueä cuûa nhieàu thaønh vieâ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Baûn thaân keá hoaïch seõ cuï theå hô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eá hoaïch seõ chuaån xaùc hôn vaø traùnh ñöôïc söï phieán dieä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eá hoaïch seõ mang tính saùng taïo hô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aêng cöôøng chaát löôïng noäi dung keá hoaïc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62960" indent="-462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Muïc tieâu, chính saùch, phöông phaùp cuõng nhö tieán trình hoaøn thaønh keá hoaïch seõ roõ raøng hôn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440" y="914040"/>
            <a:ext cx="4419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6699"/>
                </a:solidFill>
                <a:latin typeface="VNI-Bodon"/>
              </a:rPr>
              <a:t>1. </a:t>
            </a:r>
            <a:r>
              <a:rPr b="1" i="1" lang="en-US" sz="2500" spc="-1" strike="noStrike" u="sng">
                <a:solidFill>
                  <a:srgbClr val="ff6699"/>
                </a:solidFill>
                <a:uFillTx/>
                <a:latin typeface="VNI-Bodon"/>
              </a:rPr>
              <a:t>ÑOÁI VÔÙI KEÁ HOAÏCH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095880" y="3733920"/>
          <a:ext cx="243864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3733920"/>
                    <a:ext cx="24386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990360"/>
            <a:ext cx="48769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33cccc"/>
                </a:solidFill>
                <a:latin typeface="VNI-Bodon"/>
              </a:rPr>
              <a:t>2. </a:t>
            </a:r>
            <a:r>
              <a:rPr b="1" i="1" lang="en-US" sz="2500" spc="-1" strike="noStrike" u="sng">
                <a:solidFill>
                  <a:srgbClr val="33cccc"/>
                </a:solidFill>
                <a:uFillTx/>
                <a:latin typeface="VNI-Bodon"/>
              </a:rPr>
              <a:t>ÑOÁI VÔÙI NHAØ QUAÛN LYÙ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23840"/>
            <a:ext cx="5562720" cy="44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Ñoái thoaïi giöõa ngöôøi quaûn lyù vaø nhaân vieân caáp döôùi seõ deã daøng hôn, mang laïi moái quan heä tin caäy laãn nhau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chia seõ ñöôïc muïc tieâu vaø tình huoáng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Khoâng coù tình traïng eùp buoäc töø treân xuoáng döôùi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Deã daøng coù ñöôïc söï hôïp taùc khi thöïc hieä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naâng cao söï hieåu bieát, haøi loøng vaø quan taâm cuûa nhaân vieân caáp döôùi trong keá hoaïch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phaùt trieån khaû naêng quaûn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27960">
              <a:lnSpc>
                <a:spcPct val="11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göôøi quaûn lyù coù theå söû duïng hieäu quaû thôøi gian cuûa mình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629400" y="2819520"/>
          <a:ext cx="20638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2819520"/>
                    <a:ext cx="20638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828440"/>
            <a:ext cx="5676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ff00"/>
                </a:solidFill>
                <a:latin typeface="VNI-Bodon"/>
              </a:rPr>
              <a:t>3. </a:t>
            </a:r>
            <a:r>
              <a:rPr b="1" i="1" lang="en-US" sz="2500" spc="-1" strike="noStrike" u="sng">
                <a:solidFill>
                  <a:srgbClr val="00ff00"/>
                </a:solidFill>
                <a:uFillTx/>
                <a:latin typeface="VNI-Bodon"/>
              </a:rPr>
              <a:t>ÑOÁI VÔÙI NHAÂN VIEÂN CAÁP DÖÔÙI</a:t>
            </a:r>
            <a:endParaRPr b="0" i="1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1000" y="2819160"/>
            <a:ext cx="874404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taïo cho nhaân vieân caáp döôùi coù cuøng quan ñieåm vôùi nhaø quaûn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hoaøn thaønh keá hoaïch nhö mong muoá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Töøng ngöôøi coù theå töï tieán haønh coâng vieäc maø khoâng caàn ñeán chæ daãn cuûa ngöôøi quaûn lyù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ñöôïc taëng thöôûng khi ñöa ra ñöôïc yù töôûng hay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Naâng cao tính ñoäc laäp vaø töï nguyeän ñoái vôùi coâng vieä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Duy trì ñöôïc ñoäng cô laøm vieäc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söû duïng nhö tieâu chuaån ñaùnh giaù möùc ñoä hoaøn thaønh coâng vieäc, vaø höôùng daãn ñieàu chænh vieäu thöïc hieä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taïo ra traùch nhieäm cuûa töøng ngöôøi vaø töøng ngöôøi coù theå töï ñaùnh giaù ñöôïc keát quaû cuûa hoï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Font typeface="VNI-Times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VNI-Times"/>
              </a:rPr>
              <a:t>Coù theå ñaåy maïnh chu trình keá hoaïch - chæ ñaïo - kieåm soaùt moät caùch troâi chaûy…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657600" y="228600"/>
          <a:ext cx="365760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28600"/>
                    <a:ext cx="365760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380880" y="228600"/>
          <a:ext cx="1428840" cy="133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8600"/>
                    <a:ext cx="142884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89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4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99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09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4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9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2T04:05:33Z</dcterms:created>
  <dc:creator>THANH HOA</dc:creator>
  <dc:description/>
  <dc:language>en-US</dc:language>
  <cp:lastModifiedBy>User</cp:lastModifiedBy>
  <cp:lastPrinted>2003-10-03T09:13:29Z</cp:lastPrinted>
  <dcterms:modified xsi:type="dcterms:W3CDTF">2005-01-26T08:21:27Z</dcterms:modified>
  <cp:revision>64</cp:revision>
  <dc:subject/>
  <dc:title>LAÄP KEÁ HOAÏCH LAØ:</dc:title>
</cp:coreProperties>
</file>