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LASER.WAV" ContentType="audio/x-wav"/>
  <Override PartName="/ppt/media/CAMERA.WAV" ContentType="audio/x-wav"/>
  <Override PartName="/ppt/media/TYPE.WAV" ContentType="audio/x-wav"/>
  <Override PartName="/ppt/media/image7.wmf" ContentType="image/x-wmf"/>
  <Override PartName="/ppt/media/image5.jpeg" ContentType="image/jpeg"/>
  <Override PartName="/ppt/media/image6.wmf" ContentType="image/x-wmf"/>
  <Override PartName="/ppt/media/CARBRAK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1E44-BEB2-48A9-B107-1717F164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16F6-B438-44BE-9A9B-CE2F8AC8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B116-92DE-437D-B0D2-A6FC489AC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3977-FC54-431E-9B1F-BBC8361F5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5909-536B-4501-84F3-BB7DA4C5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2DFD-6DA2-4FF0-911A-17CD5A46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B1299-B42B-487F-B721-52758F9C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8321-18AC-4F72-A240-76977F871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8662-E64E-4979-926A-875D8309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FCDC3-FA4B-4050-8E02-B9B7DB8D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D7E11-C83C-433F-92C2-A73E7280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8D4-9410-459D-ABE4-E6744B63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190A-7A3F-4769-AB7C-C49CD0C7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65B5-E1A4-4D14-8F9D-110361A1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A67D-50C5-47D7-A1AD-6C5ED2EC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97D1-E1C9-4ED1-B7AA-40453364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9BA6-BE05-41B2-B092-FD4A7DD9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849E-178C-4EC5-82FA-81F009EB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724-4E72-4841-8FF6-9B3E3FC6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4597-041C-46E7-BF1C-16C53689E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E51-4720-42F2-97E7-009CDFE4E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BFF-8B55-4D63-B27B-33DD1C83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FAC-A826-4890-8218-747ED6AA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793F-ED9A-4851-AFD1-35574C4DD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1F6B-69A8-4568-9005-08232DE83C2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C68F-CA8F-40F7-B49C-D668E2088A4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LASER.WAV"/><Relationship Id="rId8" Type="http://schemas.openxmlformats.org/officeDocument/2006/relationships/audio" Target="../media/LASER.WAV"/><Relationship Id="rId9" Type="http://schemas.openxmlformats.org/officeDocument/2006/relationships/audio" Target="../media/LASER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audio" Target="../media/LASER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1714680"/>
            <a:ext cx="8229600" cy="11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indent="452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VNI-Times"/>
              </a:rPr>
              <a:t>Kieåm soaùt coù hieäu quaû laø vieäc khoù - Ñoøi hoûi luùc ngöôøi quaûn lyù gaëp tình huoáng khoù khaên - Kieåm soaùt laø nhieäm vuï cuûa ngöôøi quaûn lyù - Ngöôøi quaûn lyù phaûi haønh ñoäng moïi ñieàu ñeå ñaït ñöôïc muïc tieâu cuûa toå chöù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029040" y="3124080"/>
            <a:ext cx="3047760" cy="2922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cc00"/>
                </a:solidFill>
                <a:latin typeface="VNI-Bodon-Poster"/>
              </a:rPr>
              <a:t>KIEÅM SOAÙT LAØ GÌ?</a:t>
            </a:r>
            <a:endParaRPr b="0" lang="en-US" sz="31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1468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00ff99"/>
                </a:solidFill>
                <a:uFillTx/>
                <a:latin typeface="VNI-Bodon"/>
              </a:rPr>
              <a:t>CAÙC COÂNG CUÏ KIEÅM SOAÙT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542600"/>
            <a:ext cx="440028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1. TRONG QUAÙ TRÌNH LÖÏA CHOÏN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Khaû naêng ñaùp öùng muïc tieâ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Xem xeùt tính hieäu quaû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Ñôn giaûn, thöïc teá, deã daøng, hôïp lyù, an toaø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Chuaåân xaùc ca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4572000"/>
            <a:ext cx="3504960" cy="1546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34120" y="1981080"/>
            <a:ext cx="3200400" cy="1473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4572000" y="3848040"/>
            <a:ext cx="43434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2. TRONG QUAÙ TRÌNH SÖÛ DUÏNG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Tính hieäu quaû, möùc ñoä phuø hôïp, khaû naêng ñaùp öùng muïc tieâ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Neân kyû löôõng vaø haøi hoø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Thôøi gian hôïp ly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Deã daøn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VNI-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VNI-Times"/>
              </a:rPr>
              <a:t>Ñaûm baûo ñoä an toaø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75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75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75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75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75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75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75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75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75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75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75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75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75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75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75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75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75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75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75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75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75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14480" y="1123920"/>
            <a:ext cx="8496000" cy="20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söï vi phaïm caùc nguyeân taéc vaø caùc qui ñòn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05560" indent="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âng vieäc bò boû beâ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05560" indent="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Xaûy ra tai naïn, thieân tai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05560" indent="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Gaây laõng phí, giaûm hieäu quaû, khoâng oån ñònh, khoâng hôïp ly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05560" indent="3085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Khoâng duy trì caùc yeáu toá: an toaøn, ñuùng ñaén, nhanh choùng trong toå chöù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457200"/>
            <a:ext cx="8153280" cy="533520"/>
          </a:xfrm>
          <a:prstGeom prst="rect">
            <a:avLst/>
          </a:prstGeom>
          <a:gradFill rotWithShape="0">
            <a:gsLst>
              <a:gs pos="0">
                <a:srgbClr val="5e5e75"/>
              </a:gs>
              <a:gs pos="5000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212400" indent="318960">
              <a:lnSpc>
                <a:spcPct val="100000"/>
              </a:lnSpc>
              <a:spcBef>
                <a:spcPts val="624"/>
              </a:spcBef>
              <a:buClr>
                <a:srgbClr val="cc0099"/>
              </a:buClr>
              <a:buFont typeface="VNI-Bod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cc0099"/>
                </a:solidFill>
                <a:uFillTx/>
                <a:latin typeface="VNI-Bodon"/>
              </a:rPr>
              <a:t>1. THIEÁU KIEÅM SOAÙT DAÃN ÑEÁN HIEÄN TÖÔÏNG</a:t>
            </a:r>
            <a:endParaRPr b="0" lang="en-US" sz="25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5120" y="3505320"/>
            <a:ext cx="4876560" cy="25700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609480"/>
            <a:ext cx="7848360" cy="4572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cc0099"/>
                </a:solidFill>
                <a:latin typeface="VNI-Bodon"/>
              </a:rPr>
              <a:t>2.KIEÅM SOAÙT THAÙI QUAÙ DAÃN ÑEÁN HIEÄN TÖÔÏNG</a:t>
            </a:r>
            <a:endParaRPr b="0" lang="en-US" sz="25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1800" y="2590560"/>
            <a:ext cx="54295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Khieáu naïi taêng leân, nhaân vieân caáp döôùi laøm vieäc keùm nhieät tình, thieáu quan taâm ñeán vieäc laøm haøi loøng caáp treâ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88440" indent="-38844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Nhaân vieân coù thaùi ñoä choáng ñoái, thuø ñòch vôùi caáp treâ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88440" indent="-38844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Xaûy ra nhieàu loãi, nhieàu vaán ñeà phaùt sin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88440" indent="-38844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Nhaân vieân caáp döôùi quaù phuï thuoäc caáp treâ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88440" indent="-38844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Vieäc baøn baïc thaûo luaän chæ xoay quanh taäp trung beà noåi vaán ñeà chöù khoâng phaûi baûn chaát cuûa söï vieä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5867280" y="3200400"/>
          <a:ext cx="2679840" cy="28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3200400"/>
                    <a:ext cx="2679840" cy="28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380880" y="1371600"/>
            <a:ext cx="8077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11480" indent="-41148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hieáu tính ñoäc laäp vaø chuû ñoäng cuûa nhaân vieâ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11480" indent="-41148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Moâi tröôøng laøm vieäc trôû neân teû nhaït - “Mang tính hai maët”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11480" indent="-411480">
              <a:lnSpc>
                <a:spcPct val="110000"/>
              </a:lnSpc>
              <a:spcBef>
                <a:spcPts val="499"/>
              </a:spcBef>
              <a:buClr>
                <a:srgbClr val="ffff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Nhaân vieân laøm vieäc qua loa, chieáu leä, lo ñoái pho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09480" y="93348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575"/>
              </a:spcBef>
              <a:buClr>
                <a:srgbClr val="ffffcc"/>
              </a:buClr>
              <a:buFont typeface="VNI-Bod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cc"/>
                </a:solidFill>
                <a:latin typeface="VNI-Bodon"/>
              </a:rPr>
              <a:t>NGÖÔØI QUAÛN LYÙ - PHAÛI TÖÏ KIEÅM SOAÙT MÌNH ÑANG THIEÁU KIEÅM SOAÙT HAY KIEÅM SOAÙT THAÙI QUAÙ ÑEÅ ÑIEÀU CHÆNH !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25909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752480" y="2057400"/>
            <a:ext cx="5334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ffffcc"/>
                </a:solidFill>
                <a:latin typeface="VNI-Bodon-Poster"/>
              </a:rPr>
              <a:t>Vieäc töï kieåm soaùt cuûa nhaân vieân caáp döôùi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cc"/>
                </a:solidFill>
                <a:latin typeface="VNI-Bodon-Poster"/>
              </a:rPr>
              <a:t>(P149)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8:13:53Z</dcterms:created>
  <dc:creator>Det Thai Tuan</dc:creator>
  <dc:description/>
  <dc:language>en-US</dc:language>
  <cp:lastModifiedBy>User</cp:lastModifiedBy>
  <cp:lastPrinted>2003-10-03T08:40:36Z</cp:lastPrinted>
  <dcterms:modified xsi:type="dcterms:W3CDTF">2005-01-26T08:26:21Z</dcterms:modified>
  <cp:revision>22</cp:revision>
  <dc:subject/>
  <dc:title>KIEÅM SOAÙT LAØ GÌ?</dc:title>
</cp:coreProperties>
</file>