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E41D3-BB5E-4C00-9375-B6687AABF7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B59DA-8CBC-4D80-927C-3E1349A0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80854-3D2E-485C-B489-159011927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476D3-BFF3-44FB-A840-7A63C370A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53AE61-6765-4C27-BE4B-6488606344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6"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108AFC-4372-4045-9120-84C28BCC7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8"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C087B-7B6E-4A59-8C62-28DD6C07C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0"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707B23-3647-419D-A508-5C92FCC83A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7D9DBE-CB6D-4425-93B8-480011DEE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0592E-BE56-4209-8749-7400A53343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5"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975C3-0ED4-4CC5-BA95-B8D35A4EB5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099D9C-078F-4D74-8A7A-99F7EB9F1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D1FAE-4CD7-4078-83C2-8CAE9C923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3"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4744A5-10F8-42DC-8184-1DCC77CA01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7"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10553E-FCC2-4281-880B-509C5A7C94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0"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5C116-5C67-49E6-AB12-77D1D01213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5"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CAD40-4908-462B-A93C-BA248A94F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9B86D-C247-493D-9D73-69AE7FDB7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965BF-7A20-4282-9867-5CE493390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41055-0F5C-472F-B3B0-1A11F1C8B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222D0-7843-4D6F-8C41-F33925E0B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4F156-04D6-4034-A037-C34F70484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B3356-78DD-49D6-9255-B4457DEE9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3F5F6-52FD-4BA1-8089-18090000A0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9BD43-673D-434A-B6A0-D948AEAFF2AC}"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DA3C1-7B6A-4DF3-A2FD-8B5D0A5A6AB0}" type="slidenum">
              <a:rPr b="0" lang="en-US" sz="1400" spc="-1" strike="noStrike">
                <a:solidFill>
                  <a:srgbClr val="996633"/>
                </a:solidFill>
                <a:latin typeface="Times New Roman"/>
              </a:rPr>
              <a:t>&lt;number&gt;</a:t>
            </a:fld>
            <a:endParaRPr b="0" lang="en-US" sz="1400" spc="-1" strike="noStrike">
              <a:solidFill>
                <a:srgbClr val="000000"/>
              </a:solidFill>
              <a:latin typeface="Times New Roman"/>
            </a:endParaRPr>
          </a:p>
        </p:txBody>
      </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52400" y="1371240"/>
            <a:ext cx="739116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996633"/>
                </a:solidFill>
                <a:latin typeface="VNI-Brush"/>
              </a:rPr>
              <a:t>Phaàn 4</a:t>
            </a:r>
            <a:endParaRPr b="0" i="1" lang="en-US" sz="7200" spc="-1" strike="noStrike">
              <a:solidFill>
                <a:srgbClr val="996633"/>
              </a:solidFill>
              <a:latin typeface="Times New Roman"/>
            </a:endParaRPr>
          </a:p>
        </p:txBody>
      </p:sp>
      <p:sp>
        <p:nvSpPr>
          <p:cNvPr id="112" name="PlaceHolder 2"/>
          <p:cNvSpPr>
            <a:spLocks noGrp="1"/>
          </p:cNvSpPr>
          <p:nvPr>
            <p:ph type="subTitle"/>
          </p:nvPr>
        </p:nvSpPr>
        <p:spPr>
          <a:xfrm>
            <a:off x="533160" y="3558960"/>
            <a:ext cx="8458200" cy="2384280"/>
          </a:xfrm>
          <a:prstGeom prst="rect">
            <a:avLst/>
          </a:prstGeom>
          <a:noFill/>
          <a:ln w="0">
            <a:noFill/>
          </a:ln>
        </p:spPr>
        <p:txBody>
          <a:bodyPr lIns="92160" rIns="92160" tIns="46080" bIns="4608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VNI-Brush"/>
              </a:rPr>
              <a:t>Baøi 10</a:t>
            </a:r>
            <a:endParaRPr b="0" lang="en-US" sz="4400" spc="-1" strike="noStrike">
              <a:solidFill>
                <a:srgbClr val="000000"/>
              </a:solidFill>
              <a:latin typeface="Times New Roman"/>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I-Brush"/>
              </a:rPr>
              <a:t>	</a:t>
            </a:r>
            <a:r>
              <a:rPr b="0" lang="en-US" sz="4400" spc="-1" strike="noStrike">
                <a:solidFill>
                  <a:srgbClr val="000000"/>
                </a:solidFill>
                <a:latin typeface="VNI-Brush"/>
              </a:rPr>
              <a:t>YÙ Nghóa Cuûa Vieäc Ñaøo Taïo vaø Phaùt Trieån Nhaân Vieân Caáp Döôùi</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28240" y="1980720"/>
            <a:ext cx="8877240" cy="4876920"/>
          </a:xfrm>
          <a:prstGeom prst="rect">
            <a:avLst/>
          </a:prstGeom>
          <a:noFill/>
          <a:ln w="0">
            <a:noFill/>
          </a:ln>
        </p:spPr>
        <p:txBody>
          <a:bodyPr lIns="92160" rIns="92160" tIns="46080" bIns="46080" anchor="t">
            <a:normAutofit fontScale="84000"/>
          </a:bodyPr>
          <a:p>
            <a:pPr marL="288000" indent="-28800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Dom"/>
              </a:rPr>
              <a:t>Keá hoaïch ñaøo taïo.</a:t>
            </a:r>
            <a:endParaRPr b="0" lang="en-US" sz="3200" spc="-1" strike="noStrike">
              <a:solidFill>
                <a:srgbClr val="000000"/>
              </a:solidFill>
              <a:latin typeface="Times New Roman"/>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	</a:t>
            </a:r>
            <a:r>
              <a:rPr b="0" lang="en-US" sz="2800" spc="-1" strike="noStrike">
                <a:solidFill>
                  <a:srgbClr val="000000"/>
                </a:solidFill>
                <a:latin typeface="VNI-Dom"/>
              </a:rPr>
              <a:t>	</a:t>
            </a:r>
            <a:r>
              <a:rPr b="0" lang="en-US" sz="2600" spc="-1" strike="noStrike">
                <a:solidFill>
                  <a:srgbClr val="000000"/>
                </a:solidFill>
                <a:latin typeface="VNI-Dom"/>
              </a:rPr>
              <a:t>Sau khi Ngöôøi quaûn lyù ñaõ hieåu ñöôïc laõnh vöïc naøo caàn phaûi ñaøo taïo vaø phaùt trieån ñoái vôùi nhaân vieân caáp döôùi, ngöôøi quaûn lyù caàn chuaån bò böôùc tieáp theo, </a:t>
            </a:r>
            <a:r>
              <a:rPr b="1" lang="en-US" sz="2600" spc="-1" strike="noStrike">
                <a:solidFill>
                  <a:srgbClr val="000000"/>
                </a:solidFill>
                <a:latin typeface="VNI-Dom"/>
              </a:rPr>
              <a:t>ñoù laø laäp keá hoaïch ñaøo taïo cho töøng nhaân vieân.</a:t>
            </a:r>
            <a:r>
              <a:rPr b="0" lang="en-US" sz="2600" spc="-1" strike="noStrike">
                <a:solidFill>
                  <a:srgbClr val="000000"/>
                </a:solidFill>
                <a:latin typeface="VNI-Dom"/>
              </a:rPr>
              <a:t> Caùch laäp keá hoaïch ñaøo taïo töông töï nhö phöông phaùp ñaõ neâu trong baøi 6 ñoái vôùi laäp keá hoaïch maø chuùng ta ñaõ nghieân cöùu. Ñieàu quan troïng laø ngöôøi quaûn lyù phaûi hieåu phöông phaùp ñaøo taïo</a:t>
            </a:r>
            <a:endParaRPr b="0" lang="en-US" sz="2600" spc="-1" strike="noStrike">
              <a:solidFill>
                <a:srgbClr val="000000"/>
              </a:solidFill>
              <a:latin typeface="Times New Roman"/>
            </a:endParaRPr>
          </a:p>
          <a:p>
            <a:pPr marL="2880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I-Dom"/>
              </a:rPr>
              <a:t>	</a:t>
            </a:r>
            <a:r>
              <a:rPr b="0" lang="en-US" sz="2600" spc="-1" strike="noStrike">
                <a:solidFill>
                  <a:srgbClr val="000000"/>
                </a:solidFill>
                <a:latin typeface="VNI-Dom"/>
              </a:rPr>
              <a:t>	</a:t>
            </a:r>
            <a:r>
              <a:rPr b="0" lang="en-US" sz="2600" spc="-1" strike="noStrike">
                <a:solidFill>
                  <a:srgbClr val="000000"/>
                </a:solidFill>
                <a:latin typeface="VNI-Dom"/>
              </a:rPr>
              <a:t>Maët khaùc, vieäc kieåm soaùt, maø ôû ñaây laø “ñaùnh giaù keát quaû ñaøo taïo” vaø “höôùng daãn chæ ñaïo boå sung”raát quan troïng trong quaù trình ñaøo taïo nhaân vieân caáp döôùi. Vì vaäy, ngöôøi quaûn lyù caàn taäp hôïp “keá hoaïch ñaùnh giaù keát quaû” vaø “keá hoaïch chæ ñaïo boå sung” trong keá hoaïch ñaøo taïo ñoái vôùi nhaân vieân caáp döôùi.</a:t>
            </a:r>
            <a:endParaRPr b="0" lang="en-US" sz="2600" spc="-1" strike="noStrike">
              <a:solidFill>
                <a:srgbClr val="000000"/>
              </a:solidFill>
              <a:latin typeface="Times New Roman"/>
            </a:endParaRPr>
          </a:p>
        </p:txBody>
      </p:sp>
      <p:sp>
        <p:nvSpPr>
          <p:cNvPr id="132"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980720"/>
            <a:ext cx="8648640" cy="4419720"/>
          </a:xfrm>
          <a:prstGeom prst="rect">
            <a:avLst/>
          </a:prstGeom>
          <a:noFill/>
          <a:ln w="0">
            <a:noFill/>
          </a:ln>
        </p:spPr>
        <p:txBody>
          <a:bodyPr lIns="92160" rIns="92160" tIns="46080" bIns="46080" anchor="t">
            <a:normAutofit fontScale="85000"/>
          </a:bodyPr>
          <a:p>
            <a:pPr marL="291600" indent="-291600">
              <a:lnSpc>
                <a:spcPct val="10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Dom"/>
              </a:rPr>
              <a:t>Phöông phaùp ñaøo taïo.</a:t>
            </a:r>
            <a:endParaRPr b="0" lang="en-US" sz="3600" spc="-1" strike="noStrike">
              <a:solidFill>
                <a:srgbClr val="000000"/>
              </a:solidFill>
              <a:latin typeface="Times New Roman"/>
            </a:endParaRPr>
          </a:p>
          <a:p>
            <a:pPr lvl="2" marL="971280" indent="-194040">
              <a:lnSpc>
                <a:spcPct val="100000"/>
              </a:lnSpc>
              <a:spcBef>
                <a:spcPts val="700"/>
              </a:spcBef>
              <a:buClr>
                <a:srgbClr val="000000"/>
              </a:buClr>
              <a:buFont typeface="VNI-Do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Sau khi vieäc laäp keá hoaïch ñaøo taïo ñaõ hoaøn taát, ngöôøi quaûn lyù caàn thöïc hieän keá hoaïch, ôû ñaây laø thöïc hieän quaù trình ñaøo taïo nhaân vieân caáp döôùi. Ngöôøi quaûn lyù laø ngöôøi chòu traùch nhieäm ñoái vôùi vieäc ñaøo taïo nhaân vieân caáp döôùi cuûa mình nhö ñaõ nghieân cöùu trong phaàn ñaàu khoaù hoïc. Ñaøo taïo taïi choå (OJT) thöôøng do ngöôøi quaûn lyù thöïc hieän nhaèm taïo ra neàn taûng cho quaù trình ñaøo taïo taïi nôi laøm vieäc cho nhaân vieân caáp döôùi.</a:t>
            </a:r>
            <a:endParaRPr b="0" lang="en-US" sz="2800" spc="-1" strike="noStrike">
              <a:solidFill>
                <a:srgbClr val="000000"/>
              </a:solidFill>
              <a:latin typeface="Times New Roman"/>
            </a:endParaRPr>
          </a:p>
          <a:p>
            <a:pPr marL="2916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4"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1981080"/>
            <a:ext cx="8267760" cy="4114800"/>
          </a:xfrm>
          <a:prstGeom prst="rect">
            <a:avLst/>
          </a:prstGeom>
          <a:noFill/>
          <a:ln w="0">
            <a:noFill/>
          </a:ln>
        </p:spPr>
        <p:txBody>
          <a:bodyPr lIns="92160" rIns="92160" tIns="46080" bIns="46080" anchor="t">
            <a:normAutofit fontScale="96000"/>
          </a:bodyPr>
          <a:p>
            <a:pPr marL="329040" indent="-329040">
              <a:lnSpc>
                <a:spcPct val="10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Dom"/>
              </a:rPr>
              <a:t>Ñaùnh giaù hoaït ñoäng ñaøo taïo.</a:t>
            </a:r>
            <a:endParaRPr b="0" lang="en-US" sz="36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NI-Dom"/>
              </a:rPr>
              <a:t>	</a:t>
            </a:r>
            <a:r>
              <a:rPr b="0" lang="en-US" sz="3600" spc="-1" strike="noStrike">
                <a:solidFill>
                  <a:srgbClr val="000000"/>
                </a:solidFill>
                <a:latin typeface="VNI-Dom"/>
              </a:rPr>
              <a:t>	</a:t>
            </a:r>
            <a:r>
              <a:rPr b="0" lang="en-US" sz="2800" spc="-1" strike="noStrike">
                <a:solidFill>
                  <a:srgbClr val="000000"/>
                </a:solidFill>
                <a:latin typeface="VNI-Dom"/>
              </a:rPr>
              <a:t>Khi hoaït ñoäng ñaøo taïo ñöôïc thöïc hieän, raát caàn coù söï ñaùnh giaù, xem xeùt vaø so saùnh keát quaû ñaøo taïo vôùi muïc tieâu keá hoaïch ñaøo taïo ñaõ ñeà ra. Sau ñoù, töø keát quaû ñaùnh giaù naøy, nhöõng ñieåm caàn caûi tieán seõ phaûi ñöôïc phaûn aùnh trong keá hoaïch ñaøo taïo tieáp theo. </a:t>
            </a:r>
            <a:endParaRPr b="0" lang="en-US" sz="2800" spc="-1" strike="noStrike">
              <a:solidFill>
                <a:srgbClr val="000000"/>
              </a:solidFill>
              <a:latin typeface="Times New Roman"/>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6"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28240" y="1981080"/>
            <a:ext cx="8877240" cy="4114800"/>
          </a:xfrm>
          <a:prstGeom prst="rect">
            <a:avLst/>
          </a:prstGeom>
          <a:noFill/>
          <a:ln w="0">
            <a:noFill/>
          </a:ln>
        </p:spPr>
        <p:txBody>
          <a:bodyPr lIns="92160" rIns="92160" tIns="46080" bIns="46080" anchor="t">
            <a:normAutofit fontScale="82000"/>
          </a:bodyPr>
          <a:p>
            <a:pPr marL="499680" indent="-499680">
              <a:lnSpc>
                <a:spcPct val="10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Ñaùnh giaù keát quaû ñaøo taïo.</a:t>
            </a:r>
            <a:endParaRPr b="0" lang="en-US" sz="3200" spc="-1" strike="noStrike">
              <a:solidFill>
                <a:srgbClr val="000000"/>
              </a:solidFill>
              <a:latin typeface="Times New Roman"/>
            </a:endParaRPr>
          </a:p>
          <a:p>
            <a:pPr lvl="2" marL="1124640" indent="-374760">
              <a:lnSpc>
                <a:spcPct val="100000"/>
              </a:lnSpc>
              <a:spcBef>
                <a:spcPts val="601"/>
              </a:spcBef>
              <a:buClr>
                <a:srgbClr val="000000"/>
              </a:buClr>
              <a:buFont typeface="VNI-Do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Ñaùnh giaù keát quaû ñaøo taïo coù theå ñöôïc thöïc hieän baèng vieäc kieåm tra nhöõng noäi dung sau ñaây, phaûn aùnh trong quaù trình ñaøo taïo:</a:t>
            </a:r>
            <a:endParaRPr b="0" lang="en-US" sz="2400" spc="-1" strike="noStrike">
              <a:solidFill>
                <a:srgbClr val="000000"/>
              </a:solidFill>
              <a:latin typeface="Times New Roman"/>
            </a:endParaRPr>
          </a:p>
          <a:p>
            <a:pPr lvl="2" marL="1124640" indent="-374760">
              <a:lnSpc>
                <a:spcPct val="100000"/>
              </a:lnSpc>
              <a:spcBef>
                <a:spcPts val="601"/>
              </a:spcBef>
              <a:buClr>
                <a:srgbClr val="000000"/>
              </a:buClr>
              <a:buFont typeface="VNI-Do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Söï caûi thieän veà soá löôïng vaø chaát löôïng ñoái vôùi vieäc saûn xuaát vaø kinh doanh.</a:t>
            </a:r>
            <a:endParaRPr b="0" lang="en-US" sz="2400" spc="-1" strike="noStrike">
              <a:solidFill>
                <a:srgbClr val="000000"/>
              </a:solidFill>
              <a:latin typeface="Times New Roman"/>
            </a:endParaRPr>
          </a:p>
          <a:p>
            <a:pPr lvl="2" marL="1124640" indent="-374760">
              <a:lnSpc>
                <a:spcPct val="100000"/>
              </a:lnSpc>
              <a:spcBef>
                <a:spcPts val="601"/>
              </a:spcBef>
              <a:buClr>
                <a:srgbClr val="000000"/>
              </a:buClr>
              <a:buFont typeface="VNI-Do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Giaûm soá tai naïn ngheà nghieäp, ít xaåy ra caùc vaán ñeà nghieâm troïng …</a:t>
            </a:r>
            <a:endParaRPr b="0" lang="en-US" sz="2400" spc="-1" strike="noStrike">
              <a:solidFill>
                <a:srgbClr val="000000"/>
              </a:solidFill>
              <a:latin typeface="Times New Roman"/>
            </a:endParaRPr>
          </a:p>
          <a:p>
            <a:pPr lvl="2" marL="1124640" indent="-374760">
              <a:lnSpc>
                <a:spcPct val="100000"/>
              </a:lnSpc>
              <a:spcBef>
                <a:spcPts val="601"/>
              </a:spcBef>
              <a:buClr>
                <a:srgbClr val="000000"/>
              </a:buClr>
              <a:buFont typeface="VNI-Do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Möùc ñoä hieåu bieát vaø kyõ naêng cuûa nhaân vieân taêng leân.</a:t>
            </a:r>
            <a:endParaRPr b="0" lang="en-US" sz="2400" spc="-1" strike="noStrike">
              <a:solidFill>
                <a:srgbClr val="000000"/>
              </a:solidFill>
              <a:latin typeface="Times New Roman"/>
            </a:endParaRPr>
          </a:p>
          <a:p>
            <a:pPr lvl="2" marL="1124640" indent="-374760">
              <a:lnSpc>
                <a:spcPct val="100000"/>
              </a:lnSpc>
              <a:spcBef>
                <a:spcPts val="601"/>
              </a:spcBef>
              <a:buClr>
                <a:srgbClr val="000000"/>
              </a:buClr>
              <a:buFont typeface="VNI-Dom"/>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Thay ñoåi vaø caûi thieän thaùi ñoä laøm vieäc, thaùi ñoä phuïc vuï khaùch haøng vaø thöïc haønh coâng vieäc</a:t>
            </a:r>
            <a:endParaRPr b="0" lang="en-US" sz="2400" spc="-1" strike="noStrike">
              <a:solidFill>
                <a:srgbClr val="000000"/>
              </a:solidFill>
              <a:latin typeface="Times New Roman"/>
            </a:endParaRPr>
          </a:p>
          <a:p>
            <a:pPr marL="4996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685800" y="214776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Taïi sao noùi Doanh nghieäp cuõng gioáng moät con ngöôøi</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Bôûi vì nhieàu khi thaùi ñoä, khaû naêng, taùc phong laøm vieäc cuûa nhaân vieân trong Cty laø yeáu toá cô baûn mang laïi keát quaû hoaït ñoäng cuûa Doanh nghieäp</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Hoaëc noùi caùch khaùc, thaùi ñoä vaø caùch laøm vieäc cuûa nhaân vieân coù theå ñöa Doanh nghieäp phaùt trieån hay ñöa Doanh nghieäp ñi xuoáng.</a:t>
            </a: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	</a:t>
            </a:r>
            <a:r>
              <a:rPr b="0" lang="en-US" sz="3200" spc="-1" strike="noStrike">
                <a:solidFill>
                  <a:srgbClr val="000000"/>
                </a:solidFill>
                <a:latin typeface="VNI-Dom"/>
              </a:rPr>
              <a:t>	</a:t>
            </a:r>
            <a:endParaRPr b="0" lang="en-US" sz="3200" spc="-1" strike="noStrike">
              <a:solidFill>
                <a:srgbClr val="000000"/>
              </a:solidFill>
              <a:latin typeface="Times New Roman"/>
            </a:endParaRPr>
          </a:p>
        </p:txBody>
      </p:sp>
      <p:sp>
        <p:nvSpPr>
          <p:cNvPr id="1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VNI-Brush"/>
              </a:rPr>
              <a:t>Vieäc Ñaøo Taïo vaø Phaùt Trieån Nhaân Vieân Caáp Döôùi</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6633"/>
                </a:solidFill>
                <a:latin typeface="VNI-Brush"/>
              </a:rPr>
              <a:t>Vieäc Ñaøo Taïo vaø Phaùt Trieån Nhaân Vieân Caáp Döôùi</a:t>
            </a:r>
            <a:endParaRPr b="0" i="1" lang="en-US" sz="4400" spc="-1" strike="noStrike">
              <a:solidFill>
                <a:srgbClr val="996633"/>
              </a:solidFill>
              <a:latin typeface="Times New Roman"/>
            </a:endParaRPr>
          </a:p>
        </p:txBody>
      </p:sp>
      <p:sp>
        <p:nvSpPr>
          <p:cNvPr id="116" name=""/>
          <p:cNvSpPr/>
          <p:nvPr/>
        </p:nvSpPr>
        <p:spPr>
          <a:xfrm>
            <a:off x="1066680" y="2043000"/>
            <a:ext cx="7772400" cy="45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Coâng vieäc coù luùc do töøng caù nhaân thöïc hieän, coù luùc do söï ñoùng goùp chung cuûa taäp theå. Tuy nhieân moät taäp theå laø taäp hôïp cuûa caùc caù nhaân ñôn leû. Do ñoù caàn phaùt trieån caùc khaû naêng cuûa töøng caù nhaân ñeå taïo ra khaû naêng chung vaø toång hôïp cuûa toaøn toå chöùc. Ñieàu naøy phuï thuoäc vaøo vieäc ñaøo taïo nhaân vieân vaø phaùt trieån nguoàn nhaân löïc</a:t>
            </a: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NI-Dom"/>
              </a:rPr>
              <a:t>	</a:t>
            </a:r>
            <a:r>
              <a:rPr b="0" lang="en-US" sz="3200" spc="-1" strike="noStrike">
                <a:solidFill>
                  <a:srgbClr val="000000"/>
                </a:solidFill>
                <a:latin typeface="VNI-Dom"/>
              </a:rPr>
              <a:t>	</a:t>
            </a:r>
            <a:r>
              <a:rPr b="1" lang="en-US" sz="3200" spc="-1" strike="noStrike">
                <a:solidFill>
                  <a:srgbClr val="3366cc"/>
                </a:solidFill>
                <a:latin typeface="VNI-Dom"/>
              </a:rPr>
              <a:t>Nguoàn nhaân löïc taïo neân neàn taûng vöõng chaéc cho töông laïi cuûa toå chöù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996633"/>
                </a:solidFill>
                <a:latin typeface="VNI-Brush"/>
              </a:rPr>
              <a:t>YÙ Nghóa Cuûa Vieäc Ñaøo Taïo vaø Phaùt Trieån NVCD</a:t>
            </a:r>
            <a:endParaRPr b="0" i="1" lang="en-US" sz="4000" spc="-1" strike="noStrike">
              <a:solidFill>
                <a:srgbClr val="996633"/>
              </a:solidFill>
              <a:latin typeface="Times New Roman"/>
            </a:endParaRPr>
          </a:p>
        </p:txBody>
      </p:sp>
      <p:sp>
        <p:nvSpPr>
          <p:cNvPr id="118" name="PlaceHolder 2"/>
          <p:cNvSpPr>
            <a:spLocks noGrp="1"/>
          </p:cNvSpPr>
          <p:nvPr>
            <p:ph/>
          </p:nvPr>
        </p:nvSpPr>
        <p:spPr>
          <a:xfrm>
            <a:off x="457200" y="1981080"/>
            <a:ext cx="8648640" cy="4572000"/>
          </a:xfrm>
          <a:prstGeom prst="rect">
            <a:avLst/>
          </a:prstGeom>
          <a:noFill/>
          <a:ln w="0">
            <a:noFill/>
          </a:ln>
        </p:spPr>
        <p:txBody>
          <a:bodyPr lIns="92160" rIns="92160" tIns="46080" bIns="46080" anchor="t">
            <a:normAutofit fontScale="76000"/>
          </a:bodyPr>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Dom"/>
              </a:rPr>
              <a:t>	</a:t>
            </a:r>
            <a:r>
              <a:rPr b="0" lang="en-US" sz="2800" spc="-1" strike="noStrike">
                <a:solidFill>
                  <a:srgbClr val="000000"/>
                </a:solidFill>
                <a:latin typeface="VNI-Dom"/>
              </a:rPr>
              <a:t>	</a:t>
            </a:r>
            <a:r>
              <a:rPr b="0" lang="en-US" sz="2400" spc="-1" strike="noStrike">
                <a:solidFill>
                  <a:srgbClr val="000000"/>
                </a:solidFill>
                <a:latin typeface="VNI-Dom"/>
              </a:rPr>
              <a:t>Ñaùnh giaù khaû naêng cuûa ngöôøi quaûn lyù döïa vaøo keát quaû laøm vieäc cuûa nhaân vieân caáp döôùi. Coù nghóa laø, ngöôøi quaûn lyù phaûi chòu traùch nhieäm phaùt trieån nhaân vieân vaø taêng cöôøng khaû naêng laøm vieäc cuûa hoï ñeå hoaøn thaønh coâng vieäc chung.</a:t>
            </a:r>
            <a:endParaRPr b="0" lang="en-US" sz="2400" spc="-1" strike="noStrike">
              <a:solidFill>
                <a:srgbClr val="000000"/>
              </a:solidFill>
              <a:latin typeface="Times New Roman"/>
            </a:endParaRPr>
          </a:p>
          <a:p>
            <a:pPr marL="260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	</a:t>
            </a:r>
            <a:r>
              <a:rPr b="0" lang="en-US" sz="2400" spc="-1" strike="noStrike">
                <a:solidFill>
                  <a:srgbClr val="000000"/>
                </a:solidFill>
                <a:latin typeface="VNI-Dom"/>
              </a:rPr>
              <a:t>	</a:t>
            </a:r>
            <a:r>
              <a:rPr b="0" lang="en-US" sz="2400" spc="-1" strike="noStrike">
                <a:solidFill>
                  <a:srgbClr val="000000"/>
                </a:solidFill>
                <a:latin typeface="VNI-Dom"/>
              </a:rPr>
              <a:t>Keát quaû laø vieäc phaùt trieån cuûa nhaân vieân caáp döôùi laø cô sôû cho vai troø vaø traùch nhieäm cuûa ngöôøi quaûn lyù. Vì lyù do ñoù,ngöôøi quaûn lyù caàn taän duïng moïi thôøi gian vaø coá gaéng phaùt trieån khaû naêng cuûa nhaân vieân caáp döôùi ñeå thöïc hieän vaø hoaøn thaønh coâng vieäc</a:t>
            </a:r>
            <a:endParaRPr b="0" lang="en-US" sz="2400" spc="-1" strike="noStrike">
              <a:solidFill>
                <a:srgbClr val="000000"/>
              </a:solidFill>
              <a:latin typeface="Times New Roman"/>
            </a:endParaRPr>
          </a:p>
          <a:p>
            <a:pPr marL="260640" indent="-260640">
              <a:lnSpc>
                <a:spcPct val="100000"/>
              </a:lnSpc>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NI-Dom"/>
              </a:rPr>
              <a:t>Ngöôøi quaûn lyù coù traùch nhieäm ñaøo taïo vaø phaùt trieån con ngöôøi ñeå taïo ra nguoàn nhaân löïc (taøi saûn con ngöôøi ), vì con ngöôøi laø nguoàn löïc quan troïng nhaát trong quaù trình kinh doan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9" name="" descr=""/>
          <p:cNvPicPr/>
          <p:nvPr/>
        </p:nvPicPr>
        <p:blipFill>
          <a:blip r:embed="rId2"/>
          <a:stretch/>
        </p:blipFill>
        <p:spPr>
          <a:xfrm>
            <a:off x="1523880" y="304920"/>
            <a:ext cx="7166160" cy="6343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
        <p:nvSpPr>
          <p:cNvPr id="121" name="PlaceHolder 2"/>
          <p:cNvSpPr>
            <a:spLocks noGrp="1"/>
          </p:cNvSpPr>
          <p:nvPr>
            <p:ph/>
          </p:nvPr>
        </p:nvSpPr>
        <p:spPr>
          <a:xfrm>
            <a:off x="228240" y="1981080"/>
            <a:ext cx="8877240" cy="4648320"/>
          </a:xfrm>
          <a:prstGeom prst="rect">
            <a:avLst/>
          </a:prstGeom>
          <a:noFill/>
          <a:ln w="0">
            <a:noFill/>
          </a:ln>
        </p:spPr>
        <p:txBody>
          <a:bodyPr lIns="92160" rIns="92160" tIns="46080" bIns="46080" anchor="t">
            <a:normAutofit fontScale="77000"/>
          </a:bodyPr>
          <a:p>
            <a:pPr marL="469080" indent="-469080">
              <a:lnSpc>
                <a:spcPct val="90000"/>
              </a:lnSpc>
              <a:spcBef>
                <a:spcPts val="4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Dom"/>
              </a:rPr>
              <a:t>Chính saùch ñaøo taïo</a:t>
            </a:r>
            <a:endParaRPr b="0" lang="en-US" sz="2000" spc="-1" strike="noStrike">
              <a:solidFill>
                <a:srgbClr val="000000"/>
              </a:solidFill>
              <a:latin typeface="Times New Roman"/>
            </a:endParaRPr>
          </a:p>
          <a:p>
            <a:pPr marL="469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NI-Dom"/>
              </a:rPr>
              <a:t>Caùc yeáu toá sau ñaây coù theå ñöôïc coi laø cô sôû caáu thaønh chính saùch nhö vaäy:</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Thay ñoåi chính saùch vaø chieán löôïc quaûn lyù nhaèm ñoái phoù vôùi nhöõng thay ñoåi trong moâi tröôøng maø toå chöùc ñang hoaït ñoäng ( xaõ hoäi, thò tröôøng, coâng ngheä …)</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Thay ñoåi trong chính saùch quaûn lyù noäi boä phoøng ban vaø naâng cao caáp ñoä quaûn lyù trong noäi boä toå chöùc.</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Vieäc thieáu hieåu bieát, kyõ naêng hay thaùi ñoä khoâng toát cuûa nhaân vieân caáp döôùi aûnh höôûng tôùi keát quaû laøm vieäc cuûa ngöôøi quaûn lyù.</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Caàn taêng cöôøng kyõ naêng vaø khaû naêng cuûa nhaân vieân caáp döôùi naèm ñaùp öùng ñöôïc coâng ngheä tieân tieán, thay ñoåi veà thò tröôøng, caáu truùc xaõ hoäi hoaëc nhöõng thay ñoåi trong caùc ñieàu kieän quoác teá trong töông laïi, coù theå döï ñoaùn tröôùc.</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Caàn caûi thieän kyõ naêng vaø khaû naêng cuûa nhaân vieân caáp döôùi ñeå thay ñoåi vieäc phaân coâng trong toå chöùc cho phuø hôïp veà nhaân söï, heä thoáng, thieát bò, vaø caùc thay ñoåi khaùc.</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Taïo ra trieån voïng veà coâng vieäc cuûa coâng ty ñoái vôùi ñoäi nguõ nhaân vieân.</a:t>
            </a:r>
            <a:endParaRPr b="0" lang="en-US" sz="2000" spc="-1" strike="noStrike">
              <a:solidFill>
                <a:srgbClr val="000000"/>
              </a:solidFill>
              <a:latin typeface="Times New Roman"/>
            </a:endParaRPr>
          </a:p>
          <a:p>
            <a:pPr marL="469080" indent="-469080">
              <a:lnSpc>
                <a:spcPct val="90000"/>
              </a:lnSpc>
              <a:spcBef>
                <a:spcPts val="499"/>
              </a:spcBef>
              <a:buClr>
                <a:srgbClr val="996633"/>
              </a:buClr>
              <a:buSzPct val="95000"/>
              <a:buFont typeface="VNI-Do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NI-Dom"/>
              </a:rPr>
              <a:t>Ñònh roõ keá hoaïch vaø muïc tieâu ngheà nghieäp cuûa töøng caù nhaân nhaân vieân caáp döôù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479600" y="1981080"/>
            <a:ext cx="7626240" cy="4114800"/>
          </a:xfrm>
          <a:prstGeom prst="rect">
            <a:avLst/>
          </a:prstGeom>
          <a:noFill/>
          <a:ln w="0">
            <a:noFill/>
          </a:ln>
        </p:spPr>
        <p:txBody>
          <a:bodyPr lIns="92160" rIns="92160" tIns="46080" bIns="46080" anchor="t">
            <a:normAutofit fontScale="75000"/>
          </a:bodyPr>
          <a:p>
            <a:pPr lvl="1" marL="557280" indent="-214200">
              <a:lnSpc>
                <a:spcPct val="80000"/>
              </a:lnSpc>
              <a:spcBef>
                <a:spcPts val="9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Dom"/>
              </a:rPr>
              <a:t>     </a:t>
            </a:r>
            <a:r>
              <a:rPr b="1" lang="en-US" sz="3600" spc="-1" strike="noStrike">
                <a:solidFill>
                  <a:srgbClr val="000000"/>
                </a:solidFill>
                <a:latin typeface="VNI-Dom"/>
              </a:rPr>
              <a:t>Chính saùch ñaøo taïo cuûa toå chöùc ñöôïc chuaån bò khoâng phaûi chæ ñeå cho ngöôøi quaûn lyù suy nghó, maø chính saùch ñoù coøn caàn laøm roõ vaø chia seû vôùi nhaân vieân caáp döôùi. Neáu ngöôøi quaûn lyù khoâng chuù yù ñeán ñieàu naøy, nhaân vieân caáp döôùi seõ khoâng bao giôø hieåu roõ moät caùch ñaày ñuû nhöõng gì hoï caàn hoïc taäp ñeå hoaøn thaønh coâng vieäc ñöôïc giao baèng chính söï coá gaéng cuûa hoï</a:t>
            </a:r>
            <a:endParaRPr b="0" lang="en-US" sz="3600" spc="-1" strike="noStrike">
              <a:solidFill>
                <a:srgbClr val="000000"/>
              </a:solidFill>
              <a:latin typeface="Times New Roman"/>
            </a:endParaRPr>
          </a:p>
          <a:p>
            <a:pPr marL="257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3"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228600" y="2285640"/>
            <a:ext cx="4495680" cy="4343400"/>
          </a:xfrm>
          <a:prstGeom prst="rect">
            <a:avLst/>
          </a:prstGeom>
          <a:noFill/>
          <a:ln w="0">
            <a:noFill/>
          </a:ln>
        </p:spPr>
        <p:txBody>
          <a:bodyPr lIns="92160" rIns="92160" tIns="46080" bIns="46080" anchor="t">
            <a:normAutofit fontScale="81000"/>
          </a:bodyPr>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 Söï ñi xuoáng (hieän taïi vaø saép tôùi) trong keát quaû hoaït ñoäng kinh doanh cuûa Cty.</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2 Söï suy giaûm (hieän taïi vaø saép tôùi) trong keát quaû kinh doanhcuûa caùc boä phaàn kinh doanh.</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3 Phaùt sinh söï coá, khuyeát taät trong chaát löôïng.</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4 Coù söï chaäm cheå trong giao haøng.</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5 Coù söï yeáu keùm veà khaû naêng cuûa nhaân vieân caáp döôùi.</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6 Söï thay ñoåi (hieän taïi vaø saép tôùi) trong moâi tröôøng kinh doanh cuûa Cty.</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7 Caàn ñaït ñöôïckeát quaû mong muoán, naâng cao hieäu quaû coâng vieäc leân.</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8 Coù söï khaïp khieânh, khoâng ñoàng boä cuûa caùc thieát bò hieän taïi.</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9 Thay ñoûi thieát bò vaø heä thoáng saûn xuaát.</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0 Caàn söû duïng trang thieát bò vaø maùy moùc môùi.</a:t>
            </a:r>
            <a:endParaRPr b="0" lang="en-US" sz="1600" spc="-1" strike="noStrike">
              <a:solidFill>
                <a:srgbClr val="000000"/>
              </a:solidFill>
              <a:latin typeface="Times New Roman"/>
            </a:endParaRPr>
          </a:p>
          <a:p>
            <a:pPr marL="4320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1 Quaù trìng saûn xuaát khoâng oån ñònh.</a:t>
            </a:r>
            <a:endParaRPr b="0" lang="en-US" sz="1600" spc="-1" strike="noStrike">
              <a:solidFill>
                <a:srgbClr val="000000"/>
              </a:solidFill>
              <a:latin typeface="Times New Roman"/>
            </a:endParaRPr>
          </a:p>
        </p:txBody>
      </p:sp>
      <p:sp>
        <p:nvSpPr>
          <p:cNvPr id="125" name="PlaceHolder 2"/>
          <p:cNvSpPr>
            <a:spLocks noGrp="1"/>
          </p:cNvSpPr>
          <p:nvPr>
            <p:ph/>
          </p:nvPr>
        </p:nvSpPr>
        <p:spPr>
          <a:xfrm>
            <a:off x="4648320" y="2286000"/>
            <a:ext cx="4270320" cy="4114800"/>
          </a:xfrm>
          <a:prstGeom prst="rect">
            <a:avLst/>
          </a:prstGeom>
          <a:noFill/>
          <a:ln w="0">
            <a:noFill/>
          </a:ln>
        </p:spPr>
        <p:txBody>
          <a:bodyPr lIns="92160" rIns="92160" tIns="46080" bIns="46080" anchor="t">
            <a:normAutofit fontScale="78000"/>
          </a:bodyPr>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2 Chaäm cheã trong nghien cöùu vaø phaùt trieån kyõ thuaät.</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3 Coù söï thay ñoåi veà moâi tröôøng laøm vieäc, söï thay ñoåi veà thò tröôøng.</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4 Thay ñoåi veà chính saùch vaø chieán löôïc quaûn lyù.</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5 Giaûm tyû suaát lôïi nhuaän, maát oån ñònh vaø giaûm taêng tröôûng.</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6 Giaûm tính caïnh tranh treân thò tröôøng nhö: Chi phí, chaát löôïng, thò phaàn …</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7 Xuaát hieän ñoái thuû caïnh tranh.</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8 Caàn öùng duïng hoaït ñoäng kinh doanh môùi vaø saûn xuaát saûn phaåm môùi.</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19 Caàn phaûi hoaøn thaønh coâng vieäc naøo ñoù gaáp.</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20 Thöïc hieän caûi tieán môùi.</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21 Nguoàn nhaân coâng hieän taïi quaù daäp khuoâng, cöùng nhaéc.</a:t>
            </a:r>
            <a:endParaRPr b="0" lang="en-US" sz="1600" spc="-1" strike="noStrike">
              <a:solidFill>
                <a:srgbClr val="000000"/>
              </a:solidFill>
              <a:latin typeface="Times New Roman"/>
            </a:endParaRPr>
          </a:p>
          <a:p>
            <a:pPr marL="4158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NI-Dom"/>
              </a:rPr>
              <a:t>22 Bò laõnh ñaïo caáp treân khieån traùch.</a:t>
            </a:r>
            <a:endParaRPr b="0" lang="en-US" sz="1600" spc="-1" strike="noStrike">
              <a:solidFill>
                <a:srgbClr val="000000"/>
              </a:solidFill>
              <a:latin typeface="Times New Roman"/>
            </a:endParaRPr>
          </a:p>
        </p:txBody>
      </p:sp>
      <p:sp>
        <p:nvSpPr>
          <p:cNvPr id="126" name=""/>
          <p:cNvSpPr/>
          <p:nvPr/>
        </p:nvSpPr>
        <p:spPr>
          <a:xfrm>
            <a:off x="-2484000" y="1789200"/>
            <a:ext cx="120769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6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Nhu caàu ñaøo taïo vaø phaùt trieån nhaân vieân caáp döôùi raát caàn thieát khi:</a:t>
            </a:r>
            <a:endParaRPr b="0" lang="en-US" sz="2400" spc="-1" strike="noStrike">
              <a:solidFill>
                <a:srgbClr val="000000"/>
              </a:solidFill>
              <a:latin typeface="Times New Roman"/>
            </a:endParaRPr>
          </a:p>
        </p:txBody>
      </p:sp>
      <p:sp>
        <p:nvSpPr>
          <p:cNvPr id="127" name=""/>
          <p:cNvSpPr/>
          <p:nvPr/>
        </p:nvSpPr>
        <p:spPr>
          <a:xfrm>
            <a:off x="4648320" y="2286000"/>
            <a:ext cx="0" cy="457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PlaceHolder 3"/>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996633"/>
                </a:solidFill>
                <a:latin typeface="VNI-Brush"/>
              </a:rPr>
              <a:t>Nhu Caàu Phaùt Trieån NVCD</a:t>
            </a:r>
            <a:endParaRPr b="0" i="1" lang="en-US" sz="48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723600" y="1981080"/>
            <a:ext cx="8420040" cy="4114800"/>
          </a:xfrm>
          <a:prstGeom prst="rect">
            <a:avLst/>
          </a:prstGeom>
          <a:noFill/>
          <a:ln w="0">
            <a:noFill/>
          </a:ln>
        </p:spPr>
        <p:txBody>
          <a:bodyPr lIns="92160" rIns="92160" tIns="46080" bIns="46080" anchor="t">
            <a:normAutofit fontScale="79000"/>
          </a:bodyPr>
          <a:p>
            <a:pPr marL="270720" indent="-270720">
              <a:lnSpc>
                <a:spcPct val="100000"/>
              </a:lnSpc>
              <a:spcBef>
                <a:spcPts val="901"/>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NI-Dom"/>
              </a:rPr>
              <a:t>Nhöõng ñieåm caàn löu yù trong chính saùch ñaøo taïo.</a:t>
            </a:r>
            <a:endParaRPr b="0" lang="en-US" sz="3600" spc="-1" strike="noStrike">
              <a:solidFill>
                <a:srgbClr val="000000"/>
              </a:solidFill>
              <a:latin typeface="Times New Roman"/>
            </a:endParaRPr>
          </a:p>
          <a:p>
            <a:pPr lvl="1" marL="586800" indent="-225720">
              <a:lnSpc>
                <a:spcPct val="100000"/>
              </a:lnSpc>
              <a:spcBef>
                <a:spcPts val="6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Noäi dung kyõ naêng ñaøo taïo ñi cuøng vôùi muïc tieâu vaø tieâu chuaån ñaøo taïo</a:t>
            </a:r>
            <a:endParaRPr b="0" lang="en-US" sz="2400" spc="-1" strike="noStrike">
              <a:solidFill>
                <a:srgbClr val="000000"/>
              </a:solidFill>
              <a:latin typeface="Times New Roman"/>
            </a:endParaRPr>
          </a:p>
          <a:p>
            <a:pPr lvl="1" marL="586800" indent="-225720">
              <a:lnSpc>
                <a:spcPct val="100000"/>
              </a:lnSpc>
              <a:spcBef>
                <a:spcPts val="6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Thôøi haïn tröôùc ñaøo taïo vaø thôøi gian keát thuùc ñaøo taïo.</a:t>
            </a:r>
            <a:endParaRPr b="0" lang="en-US" sz="2400" spc="-1" strike="noStrike">
              <a:solidFill>
                <a:srgbClr val="000000"/>
              </a:solidFill>
              <a:latin typeface="Times New Roman"/>
            </a:endParaRPr>
          </a:p>
          <a:p>
            <a:pPr lvl="1" marL="586800" indent="-225720">
              <a:lnSpc>
                <a:spcPct val="100000"/>
              </a:lnSpc>
              <a:spcBef>
                <a:spcPts val="601"/>
              </a:spcBef>
              <a:buClr>
                <a:srgbClr val="000000"/>
              </a:buClr>
              <a:buFont typeface="VNI-Do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Phöông phaùp ñaøo taïo</a:t>
            </a:r>
            <a:endParaRPr b="0" lang="en-US" sz="2400" spc="-1" strike="noStrike">
              <a:solidFill>
                <a:srgbClr val="000000"/>
              </a:solidFill>
              <a:latin typeface="Times New Roman"/>
            </a:endParaRPr>
          </a:p>
          <a:p>
            <a:pPr lvl="1" marL="586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Dom"/>
              </a:rPr>
              <a:t>Khi chuaån bò moät chöông trình  ñaøo taïo cuï theå, döïa treân chính saùch ñaøo taïo, ngöôøi quaûn lyù tröôùc heát phaûi phaân bieät roõ söï khaùc nhau giöõa: “Nhu caàu coâng vieäc caàn ñaøo taïo” vaø “khaû naêng cuûa nhaân vieân caáp döôùi ñang coù”, ñeå xem keá hoaïch ñoù phuïc vuï nhu caàu ñaøo taïo cho caù nhaân hay cho toaøn theå nhaân vieân trong boä phaän ñoù.</a:t>
            </a:r>
            <a:endParaRPr b="0" lang="en-US" sz="2400" spc="-1" strike="noStrike">
              <a:solidFill>
                <a:srgbClr val="000000"/>
              </a:solidFill>
              <a:latin typeface="Times New Roman"/>
            </a:endParaRPr>
          </a:p>
        </p:txBody>
      </p:sp>
      <p:sp>
        <p:nvSpPr>
          <p:cNvPr id="130" name="PlaceHolder 2"/>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VNI-Brush"/>
              </a:rPr>
              <a:t>Phöông Phaùp Ñaøo Taïo vaø Phaùt Trieån NVCD</a:t>
            </a:r>
            <a:endParaRPr b="0" i="1" lang="en-US" sz="4400" spc="-1" strike="noStrike">
              <a:solidFill>
                <a:srgbClr val="996633"/>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04T20:06:51Z</dcterms:created>
  <dc:creator>Sean Le</dc:creator>
  <dc:description/>
  <dc:language>en-US</dc:language>
  <cp:lastModifiedBy> THAI TUAN CHI</cp:lastModifiedBy>
  <dcterms:modified xsi:type="dcterms:W3CDTF">2003-10-11T14:51:57Z</dcterms:modified>
  <cp:revision>12</cp:revision>
  <dc:subject/>
  <dc:title>Phaàn 4</dc:title>
</cp:coreProperties>
</file>